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3EF-EA2B-40FF-A84D-3ACA1A3D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C00-7B6E-4BB2-91E0-1195D917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871-7441-4187-A391-00755148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549-ABDC-4B39-AE0E-E5EE1959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7B02-DF85-439D-B657-96D74C46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677E-AE7C-42CC-B3D8-57DAFB0A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74FF-7EB6-4D59-BD25-2E4FFDCA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0893-3D78-485E-8779-7E88F5E6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A49D-1344-410C-BABB-4525938B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8570-3784-483E-8243-D5664965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A0AF-FECD-4983-A367-793C7F7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EFF1-C59D-4379-A776-C4D69122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1980-731C-44BF-BE47-D9FF30A2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93A6-6797-4543-908B-69D7CCDC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7016-D38A-45B9-AC76-AAD9BD31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709E-F504-4790-AA2E-CAD1A585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727A-E368-44A6-956D-79198CDC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A20-2534-482C-9D54-57AE789D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474-9FE3-4FDB-B93F-1322F4C6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529-D44B-4488-AF80-2D5ED480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E42-0A39-4ABB-B66F-AAD3E0DA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AF1-B868-45F8-9F8F-327188C5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ED9-FD4C-4035-B075-97F8263E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0D0-B811-420C-A247-BD2642A3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BB9B-9224-4BE7-822C-D21F26001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E2BE-D918-48C8-8048-21B3368D1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30280" y="762120"/>
            <a:ext cx="726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Century Gothic"/>
              </a:rPr>
              <a:t>ANATOMIA DEL CORAZ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Century Gothic"/>
              </a:rPr>
              <a:t>Y GRANDES VAS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64160" y="3978360"/>
            <a:ext cx="56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r: Guillermo González Oj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images%20anatomia%20figurada" descr="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719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02480" y="380880"/>
            <a:ext cx="677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NATOMIA DEL CORAZ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60640" y="990720"/>
            <a:ext cx="52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Y GRANDES VAS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518148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r:Guillermo González Ojeda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ff"/>
                </a:solidFill>
                <a:latin typeface="Arial"/>
              </a:rPr>
              <a:t>UNION ATRIOVENTRICULAR      NORM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678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s aparatos valvulares A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recho: Válvula tricúsp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zquierdo: Válvula mit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álvula aórtica en cuña entre ell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or%20UA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VALVULAS SIGMOIDE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valv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comisu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cuerdas tendinos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senos de Valsal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orazon%20anatom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ESQUELETO FIBROS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Dos anillos de las 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Anillo valvular sigmoide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Unión mitro-a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r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952880"/>
            <a:ext cx="54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ptum atrioventricular fibro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RTERIAS CORONAR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Coronaria Derech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Descendente Post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Coronaria Izquier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Descendente Ant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Circunfle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max-alimcorazon%20coronari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50280" y="181080"/>
            <a:ext cx="20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OR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28240" y="1436760"/>
            <a:ext cx="39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sterior  y derecha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4440" y="2209680"/>
            <a:ext cx="33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orta ascend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720" y="304812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co aórtic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6760" y="3733920"/>
            <a:ext cx="32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asos supra-aór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4440" y="441972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orta descend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2000" y="5105520"/>
            <a:ext cx="16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rácic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4160" y="5715000"/>
            <a:ext cx="18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dom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aorta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715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14360" y="304920"/>
            <a:ext cx="539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RTERIA PULMON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3760" y="1676520"/>
            <a:ext cx="36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terior e izquier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4840" y="2743200"/>
            <a:ext cx="53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ronco de la Arteria Pulmon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5920" y="3809880"/>
            <a:ext cx="66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ma  Derecha de la Arteria Pulmon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5560" y="4952880"/>
            <a:ext cx="67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ma Izquierda de la Arteria Pulmon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133720" y="1143000"/>
          <a:ext cx="53337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143000"/>
                    <a:ext cx="5333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044800" y="37476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GENERALIDAD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48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4680" y="1828800"/>
            <a:ext cx="73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rgano impar situado en mediastino med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1800" y="4267080"/>
            <a:ext cx="60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iene dos bordes: agudo y  obtu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1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1440" y="5334120"/>
            <a:ext cx="77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s caras: antero-superior y postero-inferio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73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2520" y="2895480"/>
            <a:ext cx="737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 de cono o pera : base hacia arriba 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értice  hacia 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AP" descr=""/>
          <p:cNvPicPr/>
          <p:nvPr/>
        </p:nvPicPr>
        <p:blipFill>
          <a:blip r:embed="rId1"/>
          <a:stretch/>
        </p:blipFill>
        <p:spPr>
          <a:xfrm>
            <a:off x="838080" y="0"/>
            <a:ext cx="746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910880" y="304920"/>
            <a:ext cx="68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SISTEMA DE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CONDUCC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6400" y="1219320"/>
            <a:ext cx="25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do sin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6040" y="1828800"/>
            <a:ext cx="35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aces internod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61360" y="2362320"/>
            <a:ext cx="29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z de Wenkeb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61360" y="2895480"/>
            <a:ext cx="22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z de Thor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60280" y="3429000"/>
            <a:ext cx="27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z de Batch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6400" y="3962520"/>
            <a:ext cx="18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do A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5680" y="4419720"/>
            <a:ext cx="23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az de Hi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7320" y="495288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ma Derec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579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7320" y="5410080"/>
            <a:ext cx="24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ma Izquier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6400" y="5943600"/>
            <a:ext cx="33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bras de Purki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horax%20y%20co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ircuhombrec" descr=""/>
          <p:cNvPicPr/>
          <p:nvPr/>
        </p:nvPicPr>
        <p:blipFill>
          <a:blip r:embed="rId1"/>
          <a:stretch/>
        </p:blipFill>
        <p:spPr>
          <a:xfrm>
            <a:off x="228600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42960" y="228600"/>
            <a:ext cx="53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URICULA DERECH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5840" y="1219320"/>
            <a:ext cx="38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ción lisa post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6920" y="1905120"/>
            <a:ext cx="65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ción trabeculada anterior: orejue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6560" y="2590920"/>
            <a:ext cx="29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resta termi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5480" y="3352680"/>
            <a:ext cx="66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racterísticas de la orejuela  derech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1640" y="4038480"/>
            <a:ext cx="37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cha, roma,  triangular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5960" y="4648320"/>
            <a:ext cx="64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de el orificio de la VCS hasta el de la VC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3440" y="5257800"/>
            <a:ext cx="35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rde poco festone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3800" y="5867280"/>
            <a:ext cx="61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úsculos pectíneos corren en ángulo r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URICULA IZQUIERD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orción lisa poster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orción trabeculada pequeña: Orejuela izquier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Características de la orejuela izquier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strecha, alargada, tubula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llega al orificio de las VP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borde festonead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cresta termina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úsculos pectíneos dispuesto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rregular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VENTRICULO DERECH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por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Válvula tricúsp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abéculas grues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Cresta supraventricul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continuidad tricuspídeo-pulmon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abécula septomargi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Banda moderadora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VENTRICULO IZQUIERD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782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por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Válvula mit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abéculas fin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orción superior del SIV es l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cresta supraventricul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Continuidad mitro-aórt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trabécula septomargi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banda moderad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corazon%20con%20válvulas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7010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20:41:27Z</dcterms:created>
  <dc:creator>guillermo</dc:creator>
  <dc:description/>
  <dc:language>en-US</dc:language>
  <cp:lastModifiedBy>ci210</cp:lastModifiedBy>
  <dcterms:modified xsi:type="dcterms:W3CDTF">2004-07-12T14:06:26Z</dcterms:modified>
  <cp:revision>65</cp:revision>
  <dc:subject/>
  <dc:title>Presentación de PowerPoint</dc:title>
</cp:coreProperties>
</file>