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8D48-61F1-424F-8B86-42D6857AE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C505-144D-470F-B38D-DCAE179F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AE4-92D6-46C2-BE96-BE77D15D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EBFF-6D3B-4E65-8CE1-6A225D74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AE04-A17C-4F28-8F93-9A1E7117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0B79-0189-4F62-B24A-FC7F3A3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CAB2-6762-4E71-801E-AC462C78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199E-E784-49C3-8DBB-B49D629E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8C06-4417-4A27-B9A9-379D5666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39964-F0F8-4DB5-9CD9-3470F508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3C44-8081-4BD5-ADCB-F962B580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FA8-2D0C-4F74-B5D4-C9E2EBA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FE27-C336-48A2-9FAF-B4E7197C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F370-682A-4740-95B5-84E58922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7262-6364-4381-B4CA-8DAD8122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DC8-1D69-4EA9-AC94-E5D18480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A5BB-F96A-44C1-8C88-5CEA8599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0D55-73A4-49AD-981B-4A31672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88A-3064-4787-97D3-FCEB2D01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46A-A206-4F9A-9DA5-D2447469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4435-CCAF-485D-9748-5DAB518F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0A9-02E8-4AA5-B6D5-8B48676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9AA-7AA7-44D0-AEEC-A05FE6B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24A1-FB8C-4FC0-809D-8E576677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06F-C560-4250-9E8B-892EF55E9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3260-35E7-4DDD-A849-835673927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30280" y="762120"/>
            <a:ext cx="726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ANATOMIA DEL CORAZ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Y GRANDES VA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64160" y="397836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: Guillermo González Oj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images%20anatomia%20figurada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02480" y="380880"/>
            <a:ext cx="67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ATOMIA DEL CORAZ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60640" y="990720"/>
            <a:ext cx="52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Y GRANDES VAS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518148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r:Guillermo González Ojed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UNION ATRIOVENTRICULAR      NORM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678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aparatos valvulares A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recho: 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zquierdo: 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lvula aórtica en cuña entre 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r%20UA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ALVULAS SIGMOIDE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val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comisu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uerdas tendino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senos de Valsal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orazon%20anatom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ESQUELETO FIBROS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os anillos de las 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nillo valvular sigmo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Unión mitro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r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952880"/>
            <a:ext cx="54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ptum atrioventricular fibr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S CORONAR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An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ircunfl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max-alimcorazon%20coronari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50280" y="1810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8240" y="1436760"/>
            <a:ext cx="39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terior  y derecha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440" y="2209680"/>
            <a:ext cx="33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a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720" y="3048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co aórt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6760" y="3733920"/>
            <a:ext cx="32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asos supra-aór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441972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de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0" y="510552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rác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4160" y="5715000"/>
            <a:ext cx="18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orta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14360" y="30492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 PULMON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3760" y="1676520"/>
            <a:ext cx="36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terior e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4840" y="2743200"/>
            <a:ext cx="53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onco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5920" y="3809880"/>
            <a:ext cx="66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 Derech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5560" y="495288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Izquierd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133720" y="1143000"/>
          <a:ext cx="5333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43000"/>
                    <a:ext cx="5333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044800" y="37476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GENERALID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4680" y="1828800"/>
            <a:ext cx="73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gano impar situado en mediastino me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1800" y="4267080"/>
            <a:ext cx="60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iene dos bordes: agudo y  obtu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1440" y="5334120"/>
            <a:ext cx="77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caras: antero-superior y postero-inferi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520" y="2895480"/>
            <a:ext cx="73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 de cono o pera : base hacia arriba 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értice  hacia 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AP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0880" y="304920"/>
            <a:ext cx="68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SISTEMA DE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CONDUCC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6400" y="12193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sin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6040" y="182880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ces internod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1360" y="23623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Wenkeb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61360" y="2895480"/>
            <a:ext cx="22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Thor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60280" y="3429000"/>
            <a:ext cx="27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Batch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6400" y="396252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419720"/>
            <a:ext cx="23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z de Hi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7320" y="49528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Derec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7320" y="5410080"/>
            <a:ext cx="24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Izquie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6400" y="5943600"/>
            <a:ext cx="33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bras de Purki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horax%20y%20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ircuhombrec" descr=""/>
          <p:cNvPicPr/>
          <p:nvPr/>
        </p:nvPicPr>
        <p:blipFill>
          <a:blip r:embed="rId1"/>
          <a:stretch/>
        </p:blipFill>
        <p:spPr>
          <a:xfrm>
            <a:off x="228600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2960" y="22860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DERECH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5840" y="1219320"/>
            <a:ext cx="38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6920" y="1905120"/>
            <a:ext cx="65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trabeculada anterior: oreju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6560" y="2590920"/>
            <a:ext cx="29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esta term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5480" y="3352680"/>
            <a:ext cx="66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racterísticas de la orejuela 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640" y="40384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cha, roma,  triangular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5960" y="4648320"/>
            <a:ext cx="64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de el orificio de la VCS hasta el de la VC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3440" y="525780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rde poco festone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3800" y="5867280"/>
            <a:ext cx="61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úsculos pectíneos corren en ángulo 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IZQUIERD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trabeculada pequeña: Orejuela izquie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aracterísticas de la orejuela izqui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strecha, alargada, tubula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llega al orificio de las V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orde festone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termina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úsculos pectíneos dispuesto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rregular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DERECH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grue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ontinuidad tricuspídeo-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anda moderadora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IZQUIERD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fi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orción superior del SIV es l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ontinuidad mitro-aór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banda moder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razon%20con%20válvulas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10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20:41:27Z</dcterms:created>
  <dc:creator>guillermo</dc:creator>
  <dc:description/>
  <dc:language>en-US</dc:language>
  <cp:lastModifiedBy>ci210</cp:lastModifiedBy>
  <dcterms:modified xsi:type="dcterms:W3CDTF">2004-07-12T14:06:26Z</dcterms:modified>
  <cp:revision>65</cp:revision>
  <dc:subject/>
  <dc:title>Presentación de PowerPoint</dc:title>
</cp:coreProperties>
</file>