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A4C-3999-4010-AAF5-FB4B0F6D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83B-27FE-4B6B-85CE-D87721D3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8DC-ACF9-4B85-AC79-4AF1D850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DBD-43A8-48E0-84A4-5727FBEB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D687-5E73-4050-AD78-3BBF255D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70FA-7DAF-4896-9350-441DBD56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10C1-2F43-4FA2-9E56-80716534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D5F0-041D-4AF9-9E17-42C31A36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7184-68F2-4418-AB27-E5DB1B03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0EFD-F9FF-4B84-9353-8E71BAB6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C767-ADC6-4B1E-ABDA-FFAE54DB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D79-3840-404F-8B05-76462E69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75B3-E6F0-4665-BC96-FFBC6A87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69F9-4395-4A16-A42D-266FCF82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7840-176F-4FAC-A2AE-5947377C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6C64-206C-49AC-8F26-D0B4D760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8681-ADCF-4989-97A9-165FA81E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4D1-A452-495D-A155-828CFEA1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757-F76B-40E0-8874-EC8EA544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C0A-7C79-466C-9E0D-A784F623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440-1D64-4518-91AE-5870E075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C70-40F4-4464-A651-72BCF9B1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531-5C5D-452E-A459-5785EA0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E15-7815-4A7F-BAAE-5024D76D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83D2-67DC-4F94-9CF6-A32452668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BFC0-5F34-429D-8049-893F1DDB4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30280" y="762120"/>
            <a:ext cx="726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ANATOMIA DEL CORAZ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Y GRANDES VA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64160" y="3978360"/>
            <a:ext cx="56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r: Guillermo González Oj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images%20anatomia%20figurada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02480" y="380880"/>
            <a:ext cx="67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ATOMIA DEL CORAZ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60640" y="990720"/>
            <a:ext cx="52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Y GRANDES VAS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518148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r:Guillermo González Ojed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UNION ATRIOVENTRICULAR      NORM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678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s aparatos valvulares A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recho: Válvula tricúsp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zquierdo: Válvula mit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álvula aórtica en cuña entre ell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r%20UA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ALVULAS SIGMOIDE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valv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comisu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uerdas tendino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senos de Valsal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orazon%20anatom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ESQUELETO FIBROS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os anillos de las 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nillo valvular sigmoi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Unión mitro-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r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952880"/>
            <a:ext cx="54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ptum atrioventricular fibr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RTERIAS CORONAR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oronaria Dere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Descendente Pos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oronaria Izquier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Descendente An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ircunfle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max-alimcorazon%20coronari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50280" y="1810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OR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8240" y="1436760"/>
            <a:ext cx="39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sterior  y derecha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4440" y="2209680"/>
            <a:ext cx="33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orta ascend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720" y="304812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co aórt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6760" y="3733920"/>
            <a:ext cx="32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asos supra-aór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440" y="441972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orta descend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2000" y="5105520"/>
            <a:ext cx="16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rácic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4160" y="5715000"/>
            <a:ext cx="18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dom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aorta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7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14360" y="304920"/>
            <a:ext cx="53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RTERIA PULMON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3760" y="1676520"/>
            <a:ext cx="36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terior e izquier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4840" y="2743200"/>
            <a:ext cx="53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onco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5920" y="3809880"/>
            <a:ext cx="66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ma  Derecha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5560" y="4952880"/>
            <a:ext cx="67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ma Izquierda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133720" y="1143000"/>
          <a:ext cx="53337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43000"/>
                    <a:ext cx="5333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044800" y="37476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GENERALID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4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4680" y="1828800"/>
            <a:ext cx="73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gano impar situado en mediastino me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1800" y="4267080"/>
            <a:ext cx="60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iene dos bordes: agudo y  obtu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1440" y="5334120"/>
            <a:ext cx="77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s caras: antero-superior y postero-inferi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2520" y="2895480"/>
            <a:ext cx="737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 de cono o pera : base hacia arriba 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értice  hacia 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AP" descr="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10880" y="304920"/>
            <a:ext cx="68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SISTEMA DE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CONDUCC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6400" y="12193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do sin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6040" y="1828800"/>
            <a:ext cx="35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ces internod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61360" y="236232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Wenkeb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61360" y="2895480"/>
            <a:ext cx="22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Thor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60280" y="3429000"/>
            <a:ext cx="27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Batch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6400" y="3962520"/>
            <a:ext cx="18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do 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4419720"/>
            <a:ext cx="23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z de Hi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7320" y="49528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ma Derec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57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7320" y="5410080"/>
            <a:ext cx="24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ma Izquier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6400" y="5943600"/>
            <a:ext cx="33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bras de Purki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horax%20y%20c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ircuhombrec" descr=""/>
          <p:cNvPicPr/>
          <p:nvPr/>
        </p:nvPicPr>
        <p:blipFill>
          <a:blip r:embed="rId1"/>
          <a:stretch/>
        </p:blipFill>
        <p:spPr>
          <a:xfrm>
            <a:off x="228600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2960" y="22860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URICULA DERECH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5840" y="1219320"/>
            <a:ext cx="38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ción lisa pos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6920" y="1905120"/>
            <a:ext cx="65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ción trabeculada anterior: oreju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6560" y="2590920"/>
            <a:ext cx="29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resta term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5480" y="3352680"/>
            <a:ext cx="66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racterísticas de la orejuela  dere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1640" y="403848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cha, roma,  triangular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5960" y="4648320"/>
            <a:ext cx="64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de el orificio de la VCS hasta el de la VC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3440" y="5257800"/>
            <a:ext cx="35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rde poco festone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3800" y="5867280"/>
            <a:ext cx="61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úsculos pectíneos corren en ángulo r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URICULA IZQUIERD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rción lisa pos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rción trabeculada pequeña: Orejuela izquier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aracterísticas de la orejuela izqui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strecha, alargada, tubula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llega al orificio de las V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orde festonea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resta termina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úsculos pectíneos dispuesto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rregular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ENTRICULO DERECH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por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álvula tricúsp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s grue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resta supraventric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ontinuidad tricuspídeo-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 septomarg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anda moderadora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ENTRICULO IZQUIERD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82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por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álvula mit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s fi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orción superior del SIV es l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resta supraventric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ontinuidad mitro-aór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trabécula septomarg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banda moder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razon%20con%20válvulas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7010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20:41:27Z</dcterms:created>
  <dc:creator>guillermo</dc:creator>
  <dc:description/>
  <dc:language>en-US</dc:language>
  <cp:lastModifiedBy>ci210</cp:lastModifiedBy>
  <dcterms:modified xsi:type="dcterms:W3CDTF">2004-07-12T14:06:26Z</dcterms:modified>
  <cp:revision>65</cp:revision>
  <dc:subject/>
  <dc:title>Presentación de PowerPoint</dc:title>
</cp:coreProperties>
</file>