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3ED2-7B09-4607-8531-4A7B56EE0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8976-F7E2-4D4D-977E-784CF93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493C-9F56-43E2-87EE-ED07D5D56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D3A3-2BF4-4849-851D-014F8027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4F5E-5A0D-4244-A1CF-F0600860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9F51-F949-4C05-AC8D-F73BF7F8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1F5B-B4BD-4D5F-89C5-63D9836B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5F35-64E6-4102-8390-437D089B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5821-9B72-448E-96ED-0E61F34B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3F35-EFAD-4DE5-B8ED-C9F2D65F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94E9-F0B4-4DC0-A190-D664B09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2209-E026-4013-B4EE-105E58FE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B4CC-2793-4B50-9ED7-BED1CE3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6ED-0F71-405B-85EF-83D5ECC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EEBB-3307-4265-ACAA-0EBCFF97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4C82-443F-4391-8D64-03C32029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475-7423-41DF-B88A-2A5EAAD8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07F-86BC-47AA-A053-EB632C23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05E0-F76C-4C1B-8DD9-0D364727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829-D4E0-4F7C-9EF5-C6E3E639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1244-0178-4315-A79F-7442905D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69C-81B7-43B2-961E-0A993A89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69A3-C344-44E3-92D0-C9458322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D223-EEB5-433A-95A6-439C447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6603-54A3-4905-A91A-E7B570F00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9942-71D8-4487-84B6-E73DFE170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30280" y="762120"/>
            <a:ext cx="726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ANATOMIA DEL CORAZ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Century Gothic"/>
              </a:rPr>
              <a:t>Y GRANDES VAS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64160" y="3978360"/>
            <a:ext cx="56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r: Guillermo González Oje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images%20anatomia%20figurada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302480" y="380880"/>
            <a:ext cx="677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NATOMIA DEL CORAZ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60640" y="990720"/>
            <a:ext cx="52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Y GRANDES VAS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908000" y="5181480"/>
            <a:ext cx="51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r:Guillermo González Ojed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ffff"/>
                </a:solidFill>
                <a:latin typeface="Arial"/>
              </a:rPr>
              <a:t>UNION ATRIOVENTRICULAR      NORMAL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678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aparatos valvulares AV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recho: 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zquierdo: 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álvula aórtica en cuña entre el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cor%20U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ALVULAS SIGMOID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valv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comisu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uerdas tendino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senos de Valsal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corazon%20anatomi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ESQUELETO FIBROS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Dos anillos de las V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Anillo valvular sigmoide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Unión mitro-a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rt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952880"/>
            <a:ext cx="54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ptum atrioventricular fibr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S CORONAR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oronaria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Descendente An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teria Circunflej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max-alimcorazon%20coronaria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50280" y="181080"/>
            <a:ext cx="206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ORT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8240" y="1436760"/>
            <a:ext cx="39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sterior  y derecha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44440" y="2209680"/>
            <a:ext cx="335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a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720" y="30481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o aórtic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6760" y="3733920"/>
            <a:ext cx="32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asos supra-aór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4419720"/>
            <a:ext cx="35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orta descend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2000" y="5105520"/>
            <a:ext cx="16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rácic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4160" y="5715000"/>
            <a:ext cx="18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bdom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aorta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5715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14360" y="304920"/>
            <a:ext cx="539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RTERIA PULMONA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73760" y="1676520"/>
            <a:ext cx="36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terior e izquierd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4840" y="2743200"/>
            <a:ext cx="53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ronco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375920" y="3809880"/>
            <a:ext cx="66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 Derech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5560" y="4952880"/>
            <a:ext cx="671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ama Izquierda de la Arteria 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2133720" y="1143000"/>
          <a:ext cx="5333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143000"/>
                    <a:ext cx="5333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044800" y="374760"/>
            <a:ext cx="449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GENERALIDAD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7488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4680" y="1828800"/>
            <a:ext cx="73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gano impar situado en mediastino med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362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1800" y="4267080"/>
            <a:ext cx="60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iene dos bordes: agudo y  obtu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3124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1440" y="5334120"/>
            <a:ext cx="77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os caras: antero-superior y postero-inferior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2520" y="2895480"/>
            <a:ext cx="737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 de cono o pera : base hacia arriba 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értice  hacia abaj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TAP" descr=""/>
          <p:cNvPicPr/>
          <p:nvPr/>
        </p:nvPicPr>
        <p:blipFill>
          <a:blip r:embed="rId1"/>
          <a:stretch/>
        </p:blipFill>
        <p:spPr>
          <a:xfrm>
            <a:off x="838080" y="0"/>
            <a:ext cx="746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10880" y="304920"/>
            <a:ext cx="68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SISTEMA DE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CONDUCC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6400" y="1219320"/>
            <a:ext cx="252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sin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6040" y="1828800"/>
            <a:ext cx="35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ces internod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061360" y="2362320"/>
            <a:ext cx="29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Wenkeb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61360" y="2895480"/>
            <a:ext cx="22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Thore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60280" y="3429000"/>
            <a:ext cx="27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Haz de Batch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6400" y="3962520"/>
            <a:ext cx="188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do A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4419720"/>
            <a:ext cx="23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az de Hi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7320" y="4952880"/>
            <a:ext cx="23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Derech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5791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37320" y="5410080"/>
            <a:ext cx="24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ama Izquier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6400" y="5943600"/>
            <a:ext cx="33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ibras de Purkin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thorax%20y%20c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circuhombrec" descr=""/>
          <p:cNvPicPr/>
          <p:nvPr/>
        </p:nvPicPr>
        <p:blipFill>
          <a:blip r:embed="rId1"/>
          <a:stretch/>
        </p:blipFill>
        <p:spPr>
          <a:xfrm>
            <a:off x="228600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2960" y="228600"/>
            <a:ext cx="53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DERECH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5840" y="1219320"/>
            <a:ext cx="38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6920" y="1905120"/>
            <a:ext cx="65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orción trabeculada anterior: orejue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6560" y="2590920"/>
            <a:ext cx="297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resta term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5480" y="3352680"/>
            <a:ext cx="66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racterísticas de la orejuela  dere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1640" y="4038480"/>
            <a:ext cx="37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ncha, roma,  triangular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5960" y="4648320"/>
            <a:ext cx="64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de el orificio de la VCS hasta el de la VCI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3440" y="5257800"/>
            <a:ext cx="35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rde poco festone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03800" y="5867280"/>
            <a:ext cx="61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úsculos pectíneos corren en ángulo r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AURICULA IZQUIERD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lisa posterio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Porción trabeculada pequeña: Orejuela izquierd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Características de la orejuela izquier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estrecha, alargada, tubular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llega al orificio de las VP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orde festonead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terminal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músculos pectíneos dispuesto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rregularm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DERECH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tricúsp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grues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ontinuidad tricuspídeo-pulmon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Banda moderadora</a:t>
            </a:r>
            <a:r>
              <a:rPr b="0" i="1" lang="es-E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Arial"/>
              </a:rPr>
              <a:t>VENTRICULO IZQUIER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67820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es por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Válvula mit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Trabéculas fin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Porción superior del SIV es l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cresta supraventricul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Continuidad mitro-aórti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trabécula septomarg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Arial"/>
              </a:rPr>
              <a:t>No banda moderador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corazon%20con%20válvulas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7010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20:41:27Z</dcterms:created>
  <dc:creator>guillermo</dc:creator>
  <dc:description/>
  <dc:language>en-US</dc:language>
  <cp:lastModifiedBy>ci210</cp:lastModifiedBy>
  <dcterms:modified xsi:type="dcterms:W3CDTF">2004-07-12T14:06:26Z</dcterms:modified>
  <cp:revision>65</cp:revision>
  <dc:subject/>
  <dc:title>Presentación de PowerPoint</dc:title>
</cp:coreProperties>
</file>