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B61-EF84-41FF-89F2-D421FBD0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A2E-F59E-4BF5-A00D-5D574A5A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F8B-32A5-4399-B17C-CDBC9602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F31-FA15-42E9-BB0D-8D0C26F7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1AE-73C9-46DD-8BE2-154770C7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08C-0FA0-45B8-97D1-A472020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1AF-5FB6-44E7-B53A-D2CB84DB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6E5-25B4-4A48-88AA-2DAEF0A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A71-8849-4448-A1AB-1D007427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EEB-EAAA-4D8D-B2A2-2014290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9C0-CCBC-4031-A1CD-F7BBAF0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114-1B06-451F-9D2B-B81EA2A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FB0-572A-4B1F-800B-57ABDBED1B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o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3600" y="423720"/>
            <a:ext cx="300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ienvenidos a la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ller de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a Presión Sanguín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encontrarás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riedad de ejercici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capacitarán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pecto de vital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tu ejercicio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271920" y="333360"/>
            <a:ext cx="289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os mecanism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gulación se ilustra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ú aprendizaje y luego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visa el cono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quir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348000" y="404640"/>
            <a:ext cx="1944720" cy="1346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444120" y="10461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 flipV="1">
            <a:off x="3924360" y="476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716360" y="54756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6659640" y="33336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V="1">
            <a:off x="7236000" y="404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8028000" y="40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6709680" y="10540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6730920" y="258768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7307280" y="26589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8099280" y="2637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6679080" y="314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6730920" y="481968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 flipV="1">
            <a:off x="7307280" y="48909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8099280" y="489096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861960" y="544500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smolar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3780000" y="4869000"/>
            <a:ext cx="194436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 flipV="1">
            <a:off x="4356000" y="494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5148360" y="49402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3926520" y="545148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826920" y="486900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403280" y="494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>
            <a:off x="2195640" y="49402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0"/>
          <p:cNvSpPr/>
          <p:nvPr/>
        </p:nvSpPr>
        <p:spPr>
          <a:xfrm>
            <a:off x="831240" y="532116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eabilidad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 por tub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50920" y="278136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 flipV="1">
            <a:off x="826920" y="2852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1619280" y="2852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255240" y="3233880"/>
            <a:ext cx="19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ión de or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smolaridad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50920" y="836640"/>
            <a:ext cx="216036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 flipV="1">
            <a:off x="826920" y="9075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690560" y="9079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327600" y="141300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2900520" y="2368440"/>
            <a:ext cx="32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0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3661560" y="47628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7767000" y="40464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7839720" y="262728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7047720" y="486900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4095000" y="494172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6"/>
          <p:cNvSpPr/>
          <p:nvPr/>
        </p:nvSpPr>
        <p:spPr>
          <a:xfrm>
            <a:off x="1143720" y="494172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1359720" y="284328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8"/>
          <p:cNvSpPr/>
          <p:nvPr/>
        </p:nvSpPr>
        <p:spPr>
          <a:xfrm>
            <a:off x="567360" y="83664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250920" y="202572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96360" y="23446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843280" y="202572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919240" y="216072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ces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4560" y="1557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73720" y="159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50920" y="386064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55240" y="3789360"/>
            <a:ext cx="21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a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042920" y="35002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843280" y="386064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3059280" y="3905280"/>
            <a:ext cx="16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o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587760" y="3463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324000" y="5518080"/>
            <a:ext cx="237636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326160" y="562932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a 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3492360" y="551808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492360" y="5603760"/>
            <a:ext cx="21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 pa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6372360" y="5373720"/>
            <a:ext cx="2447640" cy="136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6443640" y="537372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a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1116000" y="5157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367520" y="5157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380360" y="4941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5956200" y="20080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Cardia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7"/>
          <p:cNvSpPr/>
          <p:nvPr/>
        </p:nvSpPr>
        <p:spPr>
          <a:xfrm>
            <a:off x="5899320" y="2060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44392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5364000" y="36925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5940360" y="3646080"/>
            <a:ext cx="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6016680" y="362124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Cardia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5292720" y="2492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5292720" y="191628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8964720" y="191628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5"/>
          <p:cNvSpPr/>
          <p:nvPr/>
        </p:nvSpPr>
        <p:spPr>
          <a:xfrm>
            <a:off x="5292720" y="1916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6"/>
          <p:cNvSpPr/>
          <p:nvPr/>
        </p:nvSpPr>
        <p:spPr>
          <a:xfrm>
            <a:off x="5292720" y="414972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7"/>
          <p:cNvSpPr/>
          <p:nvPr/>
        </p:nvSpPr>
        <p:spPr>
          <a:xfrm flipV="1">
            <a:off x="5292720" y="357300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8"/>
          <p:cNvSpPr/>
          <p:nvPr/>
        </p:nvSpPr>
        <p:spPr>
          <a:xfrm flipV="1">
            <a:off x="8964720" y="357300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5292720" y="357336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47880" y="519120"/>
            <a:ext cx="899100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los factores del rectángulo que modifican la Frecu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a Cardiaca en sentido de aumentarla o disminui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6721560" y="2925720"/>
            <a:ext cx="75996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c;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3"/>
          <p:cNvSpPr/>
          <p:nvPr/>
        </p:nvSpPr>
        <p:spPr>
          <a:xfrm>
            <a:off x="7093080" y="2492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6005880" y="4498920"/>
            <a:ext cx="256284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a; IIb; IId; IIe; I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>
            <a:off x="7164360" y="4149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250920" y="2025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6880" y="23144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843280" y="2025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169080" y="22114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ce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114560" y="1557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573720" y="159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50920" y="386064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545760" y="3897360"/>
            <a:ext cx="17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042920" y="35002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19640" y="386064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930840" y="40053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sto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164120" y="3463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6661080" y="4149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6736680" y="43354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25092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587520" y="570384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 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341964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3496320" y="5554800"/>
            <a:ext cx="19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6228000" y="454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125720" y="5157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4211640" y="5157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6045120" y="1504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men sis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58993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5443920" y="1484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5364000" y="2827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7"/>
          <p:cNvSpPr/>
          <p:nvPr/>
        </p:nvSpPr>
        <p:spPr>
          <a:xfrm flipV="1">
            <a:off x="5940360" y="2781360"/>
            <a:ext cx="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6012000" y="27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9"/>
          <p:cNvSpPr/>
          <p:nvPr/>
        </p:nvSpPr>
        <p:spPr>
          <a:xfrm>
            <a:off x="5292720" y="198900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0"/>
          <p:cNvSpPr/>
          <p:nvPr/>
        </p:nvSpPr>
        <p:spPr>
          <a:xfrm flipV="1">
            <a:off x="5292720" y="141300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1"/>
          <p:cNvSpPr/>
          <p:nvPr/>
        </p:nvSpPr>
        <p:spPr>
          <a:xfrm flipV="1">
            <a:off x="8964720" y="141300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2"/>
          <p:cNvSpPr/>
          <p:nvPr/>
        </p:nvSpPr>
        <p:spPr>
          <a:xfrm>
            <a:off x="5292720" y="141300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3"/>
          <p:cNvSpPr/>
          <p:nvPr/>
        </p:nvSpPr>
        <p:spPr>
          <a:xfrm>
            <a:off x="5292720" y="328464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4"/>
          <p:cNvSpPr/>
          <p:nvPr/>
        </p:nvSpPr>
        <p:spPr>
          <a:xfrm flipV="1">
            <a:off x="5292720" y="270792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5"/>
          <p:cNvSpPr/>
          <p:nvPr/>
        </p:nvSpPr>
        <p:spPr>
          <a:xfrm flipV="1">
            <a:off x="8964720" y="270792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6"/>
          <p:cNvSpPr/>
          <p:nvPr/>
        </p:nvSpPr>
        <p:spPr>
          <a:xfrm>
            <a:off x="5292720" y="2708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47160" y="333360"/>
            <a:ext cx="8957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los factores del rectángulo que modifican el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ólico en sentido de aumentarla o disminui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6084720" y="2781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men sis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9"/>
          <p:cNvSpPr/>
          <p:nvPr/>
        </p:nvSpPr>
        <p:spPr>
          <a:xfrm>
            <a:off x="666108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6228000" y="591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6663240" y="57340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rement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. 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6250320" y="2079720"/>
            <a:ext cx="161028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c; Ie; If;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6107760" y="3490920"/>
            <a:ext cx="205236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a; IIb; IId; I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Ro7"/>
          <p:cNvPicPr/>
          <p:nvPr/>
        </p:nvPicPr>
        <p:blipFill>
          <a:blip r:embed="rId1"/>
          <a:stretch/>
        </p:blipFill>
        <p:spPr>
          <a:xfrm>
            <a:off x="250920" y="1484280"/>
            <a:ext cx="6694560" cy="4938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177480" y="279360"/>
            <a:ext cx="8992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dentifique las variables cardiacas y su valor que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Gasto Cardiaco de 5,250 m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5298480" y="4365720"/>
            <a:ext cx="151272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5656320" y="4862520"/>
            <a:ext cx="106632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876360" y="1936800"/>
            <a:ext cx="17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. Card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6882840" y="2297160"/>
            <a:ext cx="15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6883560" y="2655720"/>
            <a:ext cx="19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orno Ven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6883560" y="30160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.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901920" y="3357720"/>
            <a:ext cx="9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.P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5302440" y="43657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.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5535360" y="486900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. S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7460280" y="4240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5 lat/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7531560" y="48434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6877080" y="4508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6804000" y="508464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cc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290160" y="190440"/>
            <a:ext cx="86144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diga el efecto de cada factor sobre la Frec. Cardiaca, Volumen sist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el Gasto cardiaco, indicando si aumenta (     ), disminuye (      ) o no va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ía (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 flipV="1">
            <a:off x="5435640" y="547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7308720" y="549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971640" y="9810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18144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181440" y="26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81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81440" y="35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81440" y="404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81440" y="447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181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8144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37080" y="6302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550440" y="212580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. Simpática increme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43240" y="2622600"/>
            <a:ext cx="38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. Parasimpática increme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41800" y="3062160"/>
            <a:ext cx="23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o del 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541440" y="3565440"/>
            <a:ext cx="31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ja frecuencia por la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542520" y="4070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cuencia Cardiaca ra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541800" y="4502160"/>
            <a:ext cx="12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40720" y="4941720"/>
            <a:ext cx="31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ída súbita de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541080" y="5445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vándose presión s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541080" y="5877000"/>
            <a:ext cx="31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ída súbita de la vol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42160" y="630252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ceso de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4520" y="14065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c.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9"/>
          <p:cNvSpPr/>
          <p:nvPr/>
        </p:nvSpPr>
        <p:spPr>
          <a:xfrm>
            <a:off x="5506920" y="1406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7237800" y="14065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Cardi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1"/>
          <p:cNvSpPr/>
          <p:nvPr/>
        </p:nvSpPr>
        <p:spPr>
          <a:xfrm>
            <a:off x="5221440" y="140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7021080" y="1406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6"/>
          <p:cNvSpPr/>
          <p:nvPr/>
        </p:nvSpPr>
        <p:spPr>
          <a:xfrm flipV="1">
            <a:off x="4788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7"/>
          <p:cNvSpPr/>
          <p:nvPr/>
        </p:nvSpPr>
        <p:spPr>
          <a:xfrm flipV="1">
            <a:off x="6516720" y="191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"/>
          <p:cNvSpPr/>
          <p:nvPr/>
        </p:nvSpPr>
        <p:spPr>
          <a:xfrm flipV="1">
            <a:off x="8172360" y="191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4788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>
            <a:off x="6516720" y="2492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8172360" y="2421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2"/>
          <p:cNvSpPr/>
          <p:nvPr/>
        </p:nvSpPr>
        <p:spPr>
          <a:xfrm flipV="1">
            <a:off x="651672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3"/>
          <p:cNvSpPr/>
          <p:nvPr/>
        </p:nvSpPr>
        <p:spPr>
          <a:xfrm>
            <a:off x="4788000" y="34304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4"/>
          <p:cNvSpPr/>
          <p:nvPr/>
        </p:nvSpPr>
        <p:spPr>
          <a:xfrm flipV="1">
            <a:off x="6516720" y="34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5"/>
          <p:cNvSpPr/>
          <p:nvPr/>
        </p:nvSpPr>
        <p:spPr>
          <a:xfrm>
            <a:off x="795672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6"/>
          <p:cNvSpPr/>
          <p:nvPr/>
        </p:nvSpPr>
        <p:spPr>
          <a:xfrm flipV="1">
            <a:off x="4788000" y="393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7"/>
          <p:cNvSpPr/>
          <p:nvPr/>
        </p:nvSpPr>
        <p:spPr>
          <a:xfrm>
            <a:off x="651672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795672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4788000" y="43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0"/>
          <p:cNvSpPr/>
          <p:nvPr/>
        </p:nvSpPr>
        <p:spPr>
          <a:xfrm flipV="1">
            <a:off x="6516720" y="43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1"/>
          <p:cNvSpPr/>
          <p:nvPr/>
        </p:nvSpPr>
        <p:spPr>
          <a:xfrm flipV="1">
            <a:off x="831708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2"/>
          <p:cNvSpPr/>
          <p:nvPr/>
        </p:nvSpPr>
        <p:spPr>
          <a:xfrm flipV="1">
            <a:off x="4788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6516720" y="47991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4"/>
          <p:cNvSpPr/>
          <p:nvPr/>
        </p:nvSpPr>
        <p:spPr>
          <a:xfrm>
            <a:off x="802800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5"/>
          <p:cNvSpPr/>
          <p:nvPr/>
        </p:nvSpPr>
        <p:spPr>
          <a:xfrm>
            <a:off x="4788000" y="54468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6"/>
          <p:cNvSpPr/>
          <p:nvPr/>
        </p:nvSpPr>
        <p:spPr>
          <a:xfrm>
            <a:off x="6588000" y="5445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7"/>
          <p:cNvSpPr/>
          <p:nvPr/>
        </p:nvSpPr>
        <p:spPr>
          <a:xfrm>
            <a:off x="8317080" y="537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8"/>
          <p:cNvSpPr/>
          <p:nvPr/>
        </p:nvSpPr>
        <p:spPr>
          <a:xfrm flipV="1">
            <a:off x="4788000" y="58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9"/>
          <p:cNvSpPr/>
          <p:nvPr/>
        </p:nvSpPr>
        <p:spPr>
          <a:xfrm>
            <a:off x="6588000" y="58784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0"/>
          <p:cNvSpPr/>
          <p:nvPr/>
        </p:nvSpPr>
        <p:spPr>
          <a:xfrm>
            <a:off x="8028000" y="609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1"/>
          <p:cNvSpPr/>
          <p:nvPr/>
        </p:nvSpPr>
        <p:spPr>
          <a:xfrm flipV="1">
            <a:off x="4788000" y="6306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2"/>
          <p:cNvSpPr/>
          <p:nvPr/>
        </p:nvSpPr>
        <p:spPr>
          <a:xfrm flipV="1">
            <a:off x="6588000" y="63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3"/>
          <p:cNvSpPr/>
          <p:nvPr/>
        </p:nvSpPr>
        <p:spPr>
          <a:xfrm flipV="1">
            <a:off x="8317080" y="6235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4"/>
          <p:cNvSpPr/>
          <p:nvPr/>
        </p:nvSpPr>
        <p:spPr>
          <a:xfrm flipV="1">
            <a:off x="8172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cc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Ro1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3"/>
          <p:cNvSpPr/>
          <p:nvPr/>
        </p:nvSpPr>
        <p:spPr>
          <a:xfrm>
            <a:off x="4206960" y="981000"/>
            <a:ext cx="459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rdene de manera secuencial y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fectos que aparecen cu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la actividad simpática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rterias y su repercusión sob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4137840" y="2787480"/>
            <a:ext cx="33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4134240" y="3219480"/>
            <a:ext cx="471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actividad de fibras 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ibras nerviosas simpát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4115160" y="3944880"/>
            <a:ext cx="42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crementa el diámetr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4136040" y="4351320"/>
            <a:ext cx="45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jación del músculo liso 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7504200" y="2781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7823520" y="35020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8326440" y="393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8542440" y="4365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146480" y="5116680"/>
            <a:ext cx="47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rdenación numérica: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7071480" y="4869000"/>
            <a:ext cx="136944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, 4, 3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9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Ro11"/>
          <p:cNvPicPr/>
          <p:nvPr/>
        </p:nvPicPr>
        <p:blipFill>
          <a:blip r:embed="rId1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4836240" y="4428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e la cadena de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Regulación de la Pre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erial, cuando ésta comienz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v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681200" y="2154240"/>
            <a:ext cx="165744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ibras de nerv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fer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834920" y="2847960"/>
            <a:ext cx="12294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ot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764360" y="3908520"/>
            <a:ext cx="104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ort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3204360" y="4340160"/>
            <a:ext cx="14396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4850640" y="145260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vación de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903200" y="2205000"/>
            <a:ext cx="35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ende paredes ar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4859640" y="2924280"/>
            <a:ext cx="429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stimulan  barorreceptores en 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tideo y arco aórtico y otras gr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erias de cuello y tóra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911840" y="422100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incrementa el tren de impulsos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o Vaso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37440" y="44280"/>
            <a:ext cx="941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793400" y="494172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Dónde se encuentra ubicado el CV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845600" y="5608800"/>
            <a:ext cx="41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De qué otras regiones del SNC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luencias, que modulan su activ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4982040" y="5222880"/>
            <a:ext cx="21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ulbo raquí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5207040" y="6140520"/>
            <a:ext cx="36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tálamo y otras áre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mación Re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4" descr="R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"/>
          <p:cNvSpPr/>
          <p:nvPr/>
        </p:nvSpPr>
        <p:spPr>
          <a:xfrm>
            <a:off x="4572000" y="156384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os de impulsos al CVM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arorrece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1800" y="13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4501440" y="25131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incrementa la actividad Para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minuye la actividad 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4541040" y="3403440"/>
            <a:ext cx="44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la frecuencia cardi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remento del diámetr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4686840" y="4483080"/>
            <a:ext cx="40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iende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3060000" y="4292640"/>
            <a:ext cx="14014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4648680" y="92160"/>
            <a:ext cx="4173480" cy="1465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pel del CVM, sobre 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so Autónomo y su reperc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el Corazón y los Vasos Sanguí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os en el control de la presión sanguí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506480" y="4941720"/>
            <a:ext cx="46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ivisión del SNA afecta a las vari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es frecuencia cardiaca y volumen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anera más significa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557240" y="5805360"/>
            <a:ext cx="44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ivisión del SNA no tiene repres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ción inervativa sobre los vasos sanguí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7576560" y="54910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mp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5366880" y="63565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simp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R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1909800" y="2276640"/>
            <a:ext cx="124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di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10160" y="3716280"/>
            <a:ext cx="891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060360" y="4221000"/>
            <a:ext cx="133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4401720" y="19080"/>
            <a:ext cx="452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cremento de la 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simpática y la disminu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 Simpática sobre el corazó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esión sangu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5318280" y="1249200"/>
            <a:ext cx="35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crementa actividad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ervio parasimpá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5414040" y="1825560"/>
            <a:ext cx="33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activad simp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ervios cardia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5338440" y="2755800"/>
            <a:ext cx="36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reduce frecuencia cardi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5340240" y="34686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el Gasto Cardi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5339880" y="4189320"/>
            <a:ext cx="38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4700880" y="4816440"/>
            <a:ext cx="41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 qué valor de presión sistólica de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ender la columna de mercu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4701240" y="5753160"/>
            <a:ext cx="42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nta realizar este ejercicio cuándo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Sanguínea desci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6010200" y="54658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4701600" y="6381720"/>
            <a:ext cx="35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ido inverso de la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indefinite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9" dur="indefinite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710" dur="indefinite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1" dur="indefinite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R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4556880" y="136440"/>
            <a:ext cx="45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ción de los mecanismo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ápido de la PAM, cuando se pierde s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e del torrente circul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4504680" y="1073160"/>
            <a:ext cx="35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ída de la 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4506840" y="179244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orreceptores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_ impulsos al C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506480" y="2873520"/>
            <a:ext cx="42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 actividad Para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__ actividad 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4508640" y="379584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 frecuencia Cardia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; se ___________la vas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icción y se ____________catecol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as por médula suprar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4506120" y="5392800"/>
            <a:ext cx="42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 la 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"/>
          <p:cNvSpPr/>
          <p:nvPr/>
        </p:nvSpPr>
        <p:spPr>
          <a:xfrm>
            <a:off x="4556160" y="61722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hibidos, incrementa, disminuye, contrac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lidad, lib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4554720" y="580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abras a 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3060360" y="4221000"/>
            <a:ext cx="133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6845400" y="1766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hib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6"/>
          <p:cNvSpPr/>
          <p:nvPr/>
        </p:nvSpPr>
        <p:spPr>
          <a:xfrm>
            <a:off x="4941000" y="2008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4775760" y="28004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5135400" y="3160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9"/>
          <p:cNvSpPr/>
          <p:nvPr/>
        </p:nvSpPr>
        <p:spPr>
          <a:xfrm>
            <a:off x="5011560" y="37828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0"/>
          <p:cNvSpPr/>
          <p:nvPr/>
        </p:nvSpPr>
        <p:spPr>
          <a:xfrm>
            <a:off x="4511160" y="40244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a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2"/>
          <p:cNvSpPr/>
          <p:nvPr/>
        </p:nvSpPr>
        <p:spPr>
          <a:xfrm>
            <a:off x="6616800" y="40705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6423840" y="4313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4"/>
          <p:cNvSpPr/>
          <p:nvPr/>
        </p:nvSpPr>
        <p:spPr>
          <a:xfrm>
            <a:off x="5011560" y="53737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44680" y="189000"/>
            <a:ext cx="8169120" cy="65653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uestas diapositiv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fínteres precapilares abiertos = A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p0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Disminu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pC0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A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trientes adecuados = Normal (no var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mperatura baja = Disminu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ión sanguínea baja = Disminu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R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"/>
          <p:cNvSpPr/>
          <p:nvPr/>
        </p:nvSpPr>
        <p:spPr>
          <a:xfrm>
            <a:off x="1766520" y="1916280"/>
            <a:ext cx="1181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erv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rdia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838520" y="2787480"/>
            <a:ext cx="116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rot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837800" y="3435480"/>
            <a:ext cx="8391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1981800" y="4221000"/>
            <a:ext cx="865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ó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3062160" y="4384800"/>
            <a:ext cx="12826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782960" y="189000"/>
            <a:ext cx="3952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ecto de incrementar la activ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mpática sobre el corazón 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4542480" y="1335240"/>
            <a:ext cx="43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remento de la actividad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 cardiacos sim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____actividad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2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4489560" y="2558880"/>
            <a:ext cx="46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__frecuencia cardia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contrac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6516720" y="3068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6"/>
          <p:cNvSpPr/>
          <p:nvPr/>
        </p:nvSpPr>
        <p:spPr>
          <a:xfrm>
            <a:off x="4614840" y="3548160"/>
            <a:ext cx="36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Gasto cardi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7"/>
          <p:cNvSpPr/>
          <p:nvPr/>
        </p:nvSpPr>
        <p:spPr>
          <a:xfrm>
            <a:off x="6516720" y="3933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4615200" y="4260960"/>
            <a:ext cx="42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4975920" y="4724280"/>
            <a:ext cx="36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abras a utilizar: Aument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0"/>
          <p:cNvSpPr/>
          <p:nvPr/>
        </p:nvSpPr>
        <p:spPr>
          <a:xfrm>
            <a:off x="4555800" y="544500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Prediga las respuestas que esp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ontrar ante este incremento de la P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1"/>
          <p:cNvSpPr/>
          <p:nvPr/>
        </p:nvSpPr>
        <p:spPr>
          <a:xfrm>
            <a:off x="5071320" y="19526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"/>
          <p:cNvSpPr/>
          <p:nvPr/>
        </p:nvSpPr>
        <p:spPr>
          <a:xfrm>
            <a:off x="4917960" y="25272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3"/>
          <p:cNvSpPr/>
          <p:nvPr/>
        </p:nvSpPr>
        <p:spPr>
          <a:xfrm>
            <a:off x="4865400" y="35416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4"/>
          <p:cNvSpPr/>
          <p:nvPr/>
        </p:nvSpPr>
        <p:spPr>
          <a:xfrm>
            <a:off x="4865400" y="42609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4349880" y="6159600"/>
            <a:ext cx="46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hibición simpática y excitación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3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4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500" autoRev="1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43" dur="500" autoRev="1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44" dur="500" autoRev="1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Ro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4556160" y="208080"/>
            <a:ext cx="44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o de incrementar la actividad simpá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sobre glándulas adrenales y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4555440" y="1125360"/>
            <a:ext cx="41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o de impulsos  simpático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ándulas adr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6516720" y="1700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4559760" y="2276640"/>
            <a:ext cx="44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liberan______________ y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 al torrente circ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6516720" y="2997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557960" y="3357720"/>
            <a:ext cx="44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hormonas______________frecu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a cardiaca,______________     y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6516720" y="4365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455148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615200" y="5608800"/>
            <a:ext cx="41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abras a utilizar: Contractilidad, vas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icción, incrementan, epinefrin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epinef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2775600" y="4149720"/>
            <a:ext cx="1652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4631400" y="488952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5985720" y="21985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pine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7801200" y="22240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epin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4809240" y="251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6237360" y="33051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5930280" y="36655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soconst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8156520" y="3665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4698720" y="3881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4775040" y="4862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Ro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4505760" y="352440"/>
            <a:ext cx="46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xtracción súbita de sangre deter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caída de la Presión Sanguíne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omete al flujo sanguíneo renal y d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 la liberación de una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por el riñón que a su vez promu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 la formación de otras que ti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os rápidos y a largo plazo sob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555080" y="280044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los tipos de sustancia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van formando, así como el  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y sus efectos tendent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r la 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Ro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5342040" y="3867120"/>
            <a:ext cx="38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que la naturaleza y sust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a que libera el riñón y en que l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r lleva a efectos su 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572000" y="5176800"/>
            <a:ext cx="39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a – renina -, actúa sobre: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rato en el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Ro20"/>
          <p:cNvPicPr/>
          <p:nvPr/>
        </p:nvPicPr>
        <p:blipFill>
          <a:blip r:embed="rId1"/>
          <a:stretch/>
        </p:blipFill>
        <p:spPr>
          <a:xfrm>
            <a:off x="-36360" y="-27000"/>
            <a:ext cx="5838840" cy="3819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Ro21"/>
          <p:cNvPicPr/>
          <p:nvPr/>
        </p:nvPicPr>
        <p:blipFill>
          <a:blip r:embed="rId2"/>
          <a:stretch/>
        </p:blipFill>
        <p:spPr>
          <a:xfrm>
            <a:off x="2771640" y="2924280"/>
            <a:ext cx="5810400" cy="38098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6"/>
          <p:cNvSpPr/>
          <p:nvPr/>
        </p:nvSpPr>
        <p:spPr>
          <a:xfrm>
            <a:off x="2756160" y="281160"/>
            <a:ext cx="296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nombre del su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to sobre el cual actú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écula representa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2893320" y="1647720"/>
            <a:ext cx="242100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5780160" y="2900520"/>
            <a:ext cx="323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nombre al nuevo 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do, cuando la molé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verde se acopla 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representada por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y se div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6188040" y="45086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ógeno I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853240" y="5157720"/>
            <a:ext cx="29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 algún gra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 la nueva molé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5924160" y="28116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es la naturalez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, que 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cribió en el rectángul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2972160" y="1628640"/>
            <a:ext cx="21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5996520" y="1504800"/>
            <a:ext cx="27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, del tipo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obu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6498720" y="61135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R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5"/>
          <p:cNvSpPr/>
          <p:nvPr/>
        </p:nvSpPr>
        <p:spPr>
          <a:xfrm>
            <a:off x="4557240" y="208080"/>
            <a:ext cx="46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uncie la naturaleza y nombr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que libera el Pulmón y señalíc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esqu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4557600" y="1347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sobre la c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úa el elemento liberado por el pulm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4622400" y="2584440"/>
            <a:ext cx="235692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7164360" y="2765520"/>
            <a:ext cx="1276200" cy="9169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C.A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4572000" y="25653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ógeno I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R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4506480" y="208080"/>
            <a:ext cx="45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que se acopl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ed de los capilares pulmonares 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tipo de elemento se 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4506480" y="1289160"/>
            <a:ext cx="46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que result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isión del elemento acoplado al endot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433040" y="2297160"/>
            <a:ext cx="47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es son los efectos que se esper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ltima sustancia formada en el contro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esión Sanguín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289080" y="1484280"/>
            <a:ext cx="8600760" cy="3933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espuesta de la diapositiva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Enzima conversora de angiotensinógeno (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Angiotensinógeno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Efecto presor sobre los vasos sanguíne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(vasoconstricción) y reabsorción de sal y agua por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iñón, elevando la volemia y por ende la P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R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4505760" y="423720"/>
            <a:ext cx="453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ltima sustancia formada en el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quema promueve a su vez la lib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una hormona a nivel de la Co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arre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en el rectáng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que órgano actúa y que ef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4550760" y="3160800"/>
            <a:ext cx="20368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862880" y="3141720"/>
            <a:ext cx="15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5580000" y="3571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060520" y="438480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ñón (Tubulo distal y col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5580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37200" y="5465880"/>
            <a:ext cx="247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be ClNa y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Ro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5"/>
          <p:cNvSpPr/>
          <p:nvPr/>
        </p:nvSpPr>
        <p:spPr>
          <a:xfrm>
            <a:off x="300600" y="333360"/>
            <a:ext cx="87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lique ¿Cómo se modificará el calibre del vaso sanguíneo cuando se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iciona Angiotensin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5721120" y="1119240"/>
            <a:ext cx="33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A qué límite esper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cienda la Presión Sistó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a que aparece ind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manómetro de mmh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5145480" y="3502080"/>
            <a:ext cx="38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tipo de efecto de la Angi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sina, lo consideras de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ápida o lenta. Justif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76200" y="1989000"/>
            <a:ext cx="8128080" cy="3080160"/>
          </a:xfrm>
          <a:prstGeom prst="rect">
            <a:avLst/>
          </a:prstGeom>
          <a:solidFill>
            <a:srgbClr val="ffcccc"/>
          </a:solidFill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uestas diapositiva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da = Transitorio – Funcional – Menos efic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ónica = Permanente – Funcional – Más efic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Morfológico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Ro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238680" y="398520"/>
            <a:ext cx="843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rueba tus resultados: observa la modificación en el calibre del v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guí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4352400" y="421488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bserva el ascenso en la column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urio. Identifique a este tip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ón Sanguínea, e intenta exp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su ascen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708360" y="5667480"/>
            <a:ext cx="500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Arterial Media, al tornarse rígid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d del vaso sanguíneo, efecto de acción rapil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79280" y="765000"/>
          <a:ext cx="8785440" cy="5045400"/>
        </p:xfrm>
        <a:graphic>
          <a:graphicData uri="http://schemas.openxmlformats.org/drawingml/2006/table">
            <a:tbl>
              <a:tblPr/>
              <a:tblGrid>
                <a:gridCol w="1656000"/>
                <a:gridCol w="649080"/>
                <a:gridCol w="647640"/>
                <a:gridCol w="935280"/>
                <a:gridCol w="865080"/>
                <a:gridCol w="719280"/>
                <a:gridCol w="649080"/>
                <a:gridCol w="647640"/>
                <a:gridCol w="719280"/>
                <a:gridCol w="649440"/>
                <a:gridCol w="64764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rc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i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vol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rr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6" name="Text Box 88"/>
          <p:cNvSpPr/>
          <p:nvPr/>
        </p:nvSpPr>
        <p:spPr>
          <a:xfrm>
            <a:off x="66240" y="111240"/>
            <a:ext cx="890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ice cada situación si la variable aumenta  ,disminuye  ,no varia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9"/>
          <p:cNvSpPr/>
          <p:nvPr/>
        </p:nvSpPr>
        <p:spPr>
          <a:xfrm flipV="1">
            <a:off x="5835600" y="115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0"/>
          <p:cNvSpPr/>
          <p:nvPr/>
        </p:nvSpPr>
        <p:spPr>
          <a:xfrm>
            <a:off x="7275600" y="115920"/>
            <a:ext cx="0" cy="40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1"/>
          <p:cNvSpPr/>
          <p:nvPr/>
        </p:nvSpPr>
        <p:spPr>
          <a:xfrm>
            <a:off x="8499600" y="33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2"/>
          <p:cNvSpPr/>
          <p:nvPr/>
        </p:nvSpPr>
        <p:spPr>
          <a:xfrm>
            <a:off x="36360" y="589752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V: Adaptabilidad 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l: Presión de ll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PT: Resist. Perif.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3"/>
          <p:cNvSpPr/>
          <p:nvPr/>
        </p:nvSpPr>
        <p:spPr>
          <a:xfrm>
            <a:off x="3134880" y="5897520"/>
            <a:ext cx="28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V: Resistencia al 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V: Retorno ven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C: Frecuencia card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4"/>
          <p:cNvSpPr/>
          <p:nvPr/>
        </p:nvSpPr>
        <p:spPr>
          <a:xfrm>
            <a:off x="5869080" y="589752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S: 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C: Gasto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D: Presión D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5"/>
          <p:cNvSpPr/>
          <p:nvPr/>
        </p:nvSpPr>
        <p:spPr>
          <a:xfrm>
            <a:off x="7886160" y="589752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S: Pr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96"/>
          <p:cNvSpPr/>
          <p:nvPr/>
        </p:nvSpPr>
        <p:spPr>
          <a:xfrm>
            <a:off x="212400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7"/>
          <p:cNvSpPr/>
          <p:nvPr/>
        </p:nvSpPr>
        <p:spPr>
          <a:xfrm flipV="1">
            <a:off x="277164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98"/>
          <p:cNvSpPr/>
          <p:nvPr/>
        </p:nvSpPr>
        <p:spPr>
          <a:xfrm flipV="1">
            <a:off x="5292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9"/>
          <p:cNvSpPr/>
          <p:nvPr/>
        </p:nvSpPr>
        <p:spPr>
          <a:xfrm flipV="1">
            <a:off x="5940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00"/>
          <p:cNvSpPr/>
          <p:nvPr/>
        </p:nvSpPr>
        <p:spPr>
          <a:xfrm>
            <a:off x="356400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1"/>
          <p:cNvSpPr/>
          <p:nvPr/>
        </p:nvSpPr>
        <p:spPr>
          <a:xfrm>
            <a:off x="450072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2"/>
          <p:cNvSpPr/>
          <p:nvPr/>
        </p:nvSpPr>
        <p:spPr>
          <a:xfrm flipV="1">
            <a:off x="658800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03"/>
          <p:cNvSpPr/>
          <p:nvPr/>
        </p:nvSpPr>
        <p:spPr>
          <a:xfrm flipV="1">
            <a:off x="7308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4"/>
          <p:cNvSpPr/>
          <p:nvPr/>
        </p:nvSpPr>
        <p:spPr>
          <a:xfrm>
            <a:off x="781200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05"/>
          <p:cNvSpPr/>
          <p:nvPr/>
        </p:nvSpPr>
        <p:spPr>
          <a:xfrm>
            <a:off x="81010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6"/>
          <p:cNvSpPr/>
          <p:nvPr/>
        </p:nvSpPr>
        <p:spPr>
          <a:xfrm flipV="1">
            <a:off x="867564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7"/>
          <p:cNvSpPr/>
          <p:nvPr/>
        </p:nvSpPr>
        <p:spPr>
          <a:xfrm>
            <a:off x="2124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8"/>
          <p:cNvSpPr/>
          <p:nvPr/>
        </p:nvSpPr>
        <p:spPr>
          <a:xfrm flipV="1">
            <a:off x="277164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9"/>
          <p:cNvSpPr/>
          <p:nvPr/>
        </p:nvSpPr>
        <p:spPr>
          <a:xfrm flipV="1">
            <a:off x="3564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10"/>
          <p:cNvSpPr/>
          <p:nvPr/>
        </p:nvSpPr>
        <p:spPr>
          <a:xfrm flipV="1">
            <a:off x="450072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11"/>
          <p:cNvSpPr/>
          <p:nvPr/>
        </p:nvSpPr>
        <p:spPr>
          <a:xfrm flipV="1">
            <a:off x="5292720" y="2349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2"/>
          <p:cNvSpPr/>
          <p:nvPr/>
        </p:nvSpPr>
        <p:spPr>
          <a:xfrm flipV="1">
            <a:off x="594036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3"/>
          <p:cNvSpPr/>
          <p:nvPr/>
        </p:nvSpPr>
        <p:spPr>
          <a:xfrm flipV="1">
            <a:off x="6588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14"/>
          <p:cNvSpPr/>
          <p:nvPr/>
        </p:nvSpPr>
        <p:spPr>
          <a:xfrm flipV="1">
            <a:off x="730872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15"/>
          <p:cNvSpPr/>
          <p:nvPr/>
        </p:nvSpPr>
        <p:spPr>
          <a:xfrm flipV="1">
            <a:off x="8028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16"/>
          <p:cNvSpPr/>
          <p:nvPr/>
        </p:nvSpPr>
        <p:spPr>
          <a:xfrm flipV="1">
            <a:off x="867564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7"/>
          <p:cNvSpPr/>
          <p:nvPr/>
        </p:nvSpPr>
        <p:spPr>
          <a:xfrm flipV="1"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8"/>
          <p:cNvSpPr/>
          <p:nvPr/>
        </p:nvSpPr>
        <p:spPr>
          <a:xfrm>
            <a:off x="27716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9"/>
          <p:cNvSpPr/>
          <p:nvPr/>
        </p:nvSpPr>
        <p:spPr>
          <a:xfrm>
            <a:off x="3564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0"/>
          <p:cNvSpPr/>
          <p:nvPr/>
        </p:nvSpPr>
        <p:spPr>
          <a:xfrm>
            <a:off x="4500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21"/>
          <p:cNvSpPr/>
          <p:nvPr/>
        </p:nvSpPr>
        <p:spPr>
          <a:xfrm>
            <a:off x="5292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2"/>
          <p:cNvSpPr/>
          <p:nvPr/>
        </p:nvSpPr>
        <p:spPr>
          <a:xfrm>
            <a:off x="601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3"/>
          <p:cNvSpPr/>
          <p:nvPr/>
        </p:nvSpPr>
        <p:spPr>
          <a:xfrm>
            <a:off x="6659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4"/>
          <p:cNvSpPr/>
          <p:nvPr/>
        </p:nvSpPr>
        <p:spPr>
          <a:xfrm>
            <a:off x="7308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25"/>
          <p:cNvSpPr/>
          <p:nvPr/>
        </p:nvSpPr>
        <p:spPr>
          <a:xfrm>
            <a:off x="8028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6"/>
          <p:cNvSpPr/>
          <p:nvPr/>
        </p:nvSpPr>
        <p:spPr>
          <a:xfrm>
            <a:off x="8675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27"/>
          <p:cNvSpPr/>
          <p:nvPr/>
        </p:nvSpPr>
        <p:spPr>
          <a:xfrm>
            <a:off x="1835280" y="4437000"/>
            <a:ext cx="70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8"/>
          <p:cNvSpPr/>
          <p:nvPr/>
        </p:nvSpPr>
        <p:spPr>
          <a:xfrm>
            <a:off x="277164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29"/>
          <p:cNvSpPr/>
          <p:nvPr/>
        </p:nvSpPr>
        <p:spPr>
          <a:xfrm>
            <a:off x="529272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30"/>
          <p:cNvSpPr/>
          <p:nvPr/>
        </p:nvSpPr>
        <p:spPr>
          <a:xfrm>
            <a:off x="1835280" y="5300640"/>
            <a:ext cx="70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1"/>
          <p:cNvSpPr/>
          <p:nvPr/>
        </p:nvSpPr>
        <p:spPr>
          <a:xfrm>
            <a:off x="665964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2"/>
          <p:cNvSpPr/>
          <p:nvPr/>
        </p:nvSpPr>
        <p:spPr>
          <a:xfrm>
            <a:off x="730872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33"/>
          <p:cNvSpPr/>
          <p:nvPr/>
        </p:nvSpPr>
        <p:spPr>
          <a:xfrm>
            <a:off x="2195640" y="530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4"/>
          <p:cNvSpPr/>
          <p:nvPr/>
        </p:nvSpPr>
        <p:spPr>
          <a:xfrm flipV="1">
            <a:off x="277164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5"/>
          <p:cNvSpPr/>
          <p:nvPr/>
        </p:nvSpPr>
        <p:spPr>
          <a:xfrm flipV="1">
            <a:off x="356400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36"/>
          <p:cNvSpPr/>
          <p:nvPr/>
        </p:nvSpPr>
        <p:spPr>
          <a:xfrm flipV="1">
            <a:off x="450072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7"/>
          <p:cNvSpPr/>
          <p:nvPr/>
        </p:nvSpPr>
        <p:spPr>
          <a:xfrm flipV="1">
            <a:off x="529272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38"/>
          <p:cNvSpPr/>
          <p:nvPr/>
        </p:nvSpPr>
        <p:spPr>
          <a:xfrm flipV="1">
            <a:off x="594036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39"/>
          <p:cNvSpPr/>
          <p:nvPr/>
        </p:nvSpPr>
        <p:spPr>
          <a:xfrm flipV="1">
            <a:off x="665964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40"/>
          <p:cNvSpPr/>
          <p:nvPr/>
        </p:nvSpPr>
        <p:spPr>
          <a:xfrm flipV="1">
            <a:off x="730872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41"/>
          <p:cNvSpPr/>
          <p:nvPr/>
        </p:nvSpPr>
        <p:spPr>
          <a:xfrm flipV="1">
            <a:off x="795672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42"/>
          <p:cNvSpPr/>
          <p:nvPr/>
        </p:nvSpPr>
        <p:spPr>
          <a:xfrm flipV="1">
            <a:off x="867564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43"/>
          <p:cNvSpPr/>
          <p:nvPr/>
        </p:nvSpPr>
        <p:spPr>
          <a:xfrm flipV="1">
            <a:off x="2771640" y="400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44"/>
          <p:cNvSpPr/>
          <p:nvPr/>
        </p:nvSpPr>
        <p:spPr>
          <a:xfrm flipV="1">
            <a:off x="5292720" y="400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45"/>
          <p:cNvSpPr/>
          <p:nvPr/>
        </p:nvSpPr>
        <p:spPr>
          <a:xfrm flipV="1">
            <a:off x="6659640" y="400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6"/>
          <p:cNvSpPr/>
          <p:nvPr/>
        </p:nvSpPr>
        <p:spPr>
          <a:xfrm flipV="1">
            <a:off x="7308720" y="400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47"/>
          <p:cNvSpPr/>
          <p:nvPr/>
        </p:nvSpPr>
        <p:spPr>
          <a:xfrm flipV="1">
            <a:off x="8675640" y="400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48"/>
          <p:cNvSpPr/>
          <p:nvPr/>
        </p:nvSpPr>
        <p:spPr>
          <a:xfrm flipV="1">
            <a:off x="2124000" y="4437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49"/>
          <p:cNvSpPr/>
          <p:nvPr/>
        </p:nvSpPr>
        <p:spPr>
          <a:xfrm flipV="1">
            <a:off x="2771640" y="4437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50"/>
          <p:cNvSpPr/>
          <p:nvPr/>
        </p:nvSpPr>
        <p:spPr>
          <a:xfrm>
            <a:off x="3564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51"/>
          <p:cNvSpPr/>
          <p:nvPr/>
        </p:nvSpPr>
        <p:spPr>
          <a:xfrm>
            <a:off x="4500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52"/>
          <p:cNvSpPr/>
          <p:nvPr/>
        </p:nvSpPr>
        <p:spPr>
          <a:xfrm>
            <a:off x="5292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3"/>
          <p:cNvSpPr/>
          <p:nvPr/>
        </p:nvSpPr>
        <p:spPr>
          <a:xfrm>
            <a:off x="6012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54"/>
          <p:cNvSpPr/>
          <p:nvPr/>
        </p:nvSpPr>
        <p:spPr>
          <a:xfrm>
            <a:off x="6659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55"/>
          <p:cNvSpPr/>
          <p:nvPr/>
        </p:nvSpPr>
        <p:spPr>
          <a:xfrm>
            <a:off x="7308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56"/>
          <p:cNvSpPr/>
          <p:nvPr/>
        </p:nvSpPr>
        <p:spPr>
          <a:xfrm>
            <a:off x="7956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57"/>
          <p:cNvSpPr/>
          <p:nvPr/>
        </p:nvSpPr>
        <p:spPr>
          <a:xfrm>
            <a:off x="8675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77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770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77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3" dur="770" fill="hold"/>
                                        <p:tgtEl>
                                          <p:spTgt spid="5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5" dur="77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7" dur="77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77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4" dur="770" fill="hold"/>
                                        <p:tgtEl>
                                          <p:spTgt spid="5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6" dur="77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8" dur="77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77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5" dur="770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7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9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8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0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77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770" fill="hold"/>
                                        <p:tgtEl>
                                          <p:spTgt spid="6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6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77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3" dur="770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7" dur="77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77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770" fill="hold"/>
                                        <p:tgtEl>
                                          <p:spTgt spid="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6" dur="77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8" dur="77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5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7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6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7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9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1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8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0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2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77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9" dur="770" fill="hold"/>
                                        <p:tgtEl>
                                          <p:spTgt spid="6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3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0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2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77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1" dur="770" fill="hold"/>
                                        <p:tgtEl>
                                          <p:spTgt spid="6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3" dur="77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5" dur="77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77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2" dur="770" fill="hold"/>
                                        <p:tgtEl>
                                          <p:spTgt spid="6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4" dur="77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77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5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7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4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6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77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5" dur="770" fill="hold"/>
                                        <p:tgtEl>
                                          <p:spTgt spid="6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7" dur="77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9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9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3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77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770" fill="hold"/>
                                        <p:tgtEl>
                                          <p:spTgt spid="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2" dur="77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4" dur="77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77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1" dur="770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3" dur="77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5" dur="77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77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2" dur="770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4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6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77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3" dur="770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5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7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7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4" dur="770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6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8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5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7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9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77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6" dur="770" fill="hold"/>
                                        <p:tgtEl>
                                          <p:spTgt spid="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8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77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770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77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8" dur="770" fill="hold"/>
                                        <p:tgtEl>
                                          <p:spTgt spid="6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0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2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9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1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3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77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0" dur="770" fill="hold"/>
                                        <p:tgtEl>
                                          <p:spTgt spid="6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77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1" dur="770" fill="hold"/>
                                        <p:tgtEl>
                                          <p:spTgt spid="6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5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77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2" dur="770" fill="hold"/>
                                        <p:tgtEl>
                                          <p:spTgt spid="6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4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6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77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3" dur="77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5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7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77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4" dur="770" fill="hold"/>
                                        <p:tgtEl>
                                          <p:spTgt spid="6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8" dur="77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77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5" dur="770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7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9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77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6" dur="770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0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6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77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8" dur="770" fill="hold"/>
                                        <p:tgtEl>
                                          <p:spTgt spid="6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0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2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1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3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0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2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4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1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3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5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77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2" dur="770" fill="hold"/>
                                        <p:tgtEl>
                                          <p:spTgt spid="6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4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6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3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5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7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77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4" dur="770" fill="hold"/>
                                        <p:tgtEl>
                                          <p:spTgt spid="6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6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8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5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9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6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8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0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77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7" dur="770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9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1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77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8" dur="770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0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2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Rulan45"/>
          <p:cNvPicPr/>
          <p:nvPr/>
        </p:nvPicPr>
        <p:blipFill>
          <a:blip r:embed="rId1"/>
          <a:stretch/>
        </p:blipFill>
        <p:spPr>
          <a:xfrm>
            <a:off x="-828720" y="-747720"/>
            <a:ext cx="10872720" cy="8280360"/>
          </a:xfrm>
          <a:prstGeom prst="rect">
            <a:avLst/>
          </a:prstGeom>
          <a:ln w="0">
            <a:noFill/>
          </a:ln>
        </p:spPr>
      </p:pic>
      <p:sp>
        <p:nvSpPr>
          <p:cNvPr id="657" name="WordArt 5"/>
          <p:cNvSpPr txBox="1"/>
          <p:nvPr/>
        </p:nvSpPr>
        <p:spPr>
          <a:xfrm>
            <a:off x="5076720" y="3933720"/>
            <a:ext cx="3314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4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Ro1"/>
          <p:cNvPicPr/>
          <p:nvPr/>
        </p:nvPicPr>
        <p:blipFill>
          <a:blip r:embed="rId1"/>
          <a:stretch/>
        </p:blipFill>
        <p:spPr>
          <a:xfrm>
            <a:off x="324000" y="1123920"/>
            <a:ext cx="4895640" cy="554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Ro2"/>
          <p:cNvPicPr/>
          <p:nvPr/>
        </p:nvPicPr>
        <p:blipFill>
          <a:blip r:embed="rId2"/>
          <a:stretch/>
        </p:blipFill>
        <p:spPr>
          <a:xfrm>
            <a:off x="2666880" y="3595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Line 12"/>
          <p:cNvSpPr/>
          <p:nvPr/>
        </p:nvSpPr>
        <p:spPr>
          <a:xfrm flipV="1">
            <a:off x="5364000" y="3644640"/>
            <a:ext cx="136872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 flipH="1">
            <a:off x="1618920" y="4221000"/>
            <a:ext cx="1584360" cy="43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 flipH="1">
            <a:off x="1834920" y="357192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 flipH="1">
            <a:off x="1618920" y="306864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>
            <a:off x="826560" y="2779560"/>
            <a:ext cx="2305080" cy="64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899640" y="3284640"/>
            <a:ext cx="230508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5654880" y="12682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Barorreceptores Carot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5654880" y="162864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Barorreceptores Ao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5653800" y="1989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Nervio Vago (afer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5653080" y="313380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Nervio 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5076720" y="3213000"/>
            <a:ext cx="790560" cy="72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5653800" y="277344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Nervio Vago (efer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5652360" y="241452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Nervio Gloso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 flipH="1">
            <a:off x="1547280" y="256392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915480" y="44280"/>
            <a:ext cx="7942320" cy="825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Identifique la estructura en el dibujo con los n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que aparecen a la der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325800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3278520" y="255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332928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327852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3545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325800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486108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4"/>
          <p:cNvSpPr/>
          <p:nvPr/>
        </p:nvSpPr>
        <p:spPr>
          <a:xfrm>
            <a:off x="395280" y="1989000"/>
            <a:ext cx="144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539640" y="1630080"/>
            <a:ext cx="5032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76720" y="44280"/>
            <a:ext cx="79592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ija los factores que disminuyen la PAM a 12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Ro6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771800" y="13590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ámetro Arterial increm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49560" y="193500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ensibilidad dismin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16880" y="25113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olemia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919400" y="30877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olumen sistólico dismin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917960" y="36640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scosidad sanguínea dis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844880" y="42400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ng. del vaso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6520" y="48164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m. Epinefrina en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4842720" y="5535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remento d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842720" y="61117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im. Parasimp.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3998160" y="140652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4048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26420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3998160" y="327816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3998160" y="385452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3998160" y="50068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3998160" y="62308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o3"/>
          <p:cNvPicPr/>
          <p:nvPr/>
        </p:nvPicPr>
        <p:blipFill>
          <a:blip r:embed="rId1"/>
          <a:stretch/>
        </p:blipFill>
        <p:spPr>
          <a:xfrm>
            <a:off x="324000" y="-171360"/>
            <a:ext cx="8604000" cy="662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473640" y="47242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576400" y="61848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pine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499160" y="6329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30880" y="136440"/>
            <a:ext cx="38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e los dos neurotransm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istema Nervioso Autón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aplicarse al coraz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var la presión sist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422320" y="143208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ebe ser el rang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 sanguínea nor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419640" y="4659480"/>
            <a:ext cx="158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ó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557320" y="2198520"/>
            <a:ext cx="1575360" cy="3682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0/8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animClr clrSpc="rgb">
                                      <p:cBhvr>
                                        <p:cTn id="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11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Ro4"/>
          <p:cNvPicPr/>
          <p:nvPr/>
        </p:nvPicPr>
        <p:blipFill>
          <a:blip r:embed="rId1"/>
          <a:stretch/>
        </p:blipFill>
        <p:spPr>
          <a:xfrm>
            <a:off x="108000" y="44280"/>
            <a:ext cx="6192720" cy="6131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45040" y="163440"/>
            <a:ext cx="3184560" cy="146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el nervio e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 activars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ra que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ólica descienda a su li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, e indique ese li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23880" y="3429000"/>
            <a:ext cx="3007800" cy="17398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que cuál es el medi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ímico de ese nerv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cuál de las variab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diacas que determ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Gasto Cardiaco infl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427800" y="18446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427800" y="21844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428160" y="24922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Gloso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428880" y="28321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hipog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427800" y="51577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sopre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428520" y="5438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epine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428160" y="57261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426720" y="60404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09800" y="6427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765800" y="642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2760" y="64278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ol. sistól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645800" y="64278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rec. Cardía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7094160" y="64278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t. Ven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643280" y="1773360"/>
            <a:ext cx="576360" cy="28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3203640" y="569880"/>
            <a:ext cx="2160360" cy="134640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377820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4989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78880" y="1146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156360" y="54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121800" y="10018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683568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75247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227640" y="280368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269040" y="316404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rato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7020000" y="28746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740720" y="2876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443640" y="522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6585120" y="563868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V="1">
            <a:off x="7236000" y="52779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7956720" y="52801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564000" y="5229360"/>
            <a:ext cx="216036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V="1">
            <a:off x="435600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507672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3568680" y="56610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468360" y="522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 flipV="1">
            <a:off x="126036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198108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15240" y="565956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468360" y="314172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 flipV="1">
            <a:off x="1260360" y="3141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1981080" y="31431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543600" y="3581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7"/>
          <p:cNvSpPr/>
          <p:nvPr/>
        </p:nvSpPr>
        <p:spPr>
          <a:xfrm>
            <a:off x="539640" y="1125360"/>
            <a:ext cx="2160720" cy="134640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"/>
          <p:cNvSpPr/>
          <p:nvPr/>
        </p:nvSpPr>
        <p:spPr>
          <a:xfrm flipV="1">
            <a:off x="1116000" y="119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268360" y="12924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616320" y="170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5508720" y="114624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7308720" y="2060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3"/>
          <p:cNvSpPr/>
          <p:nvPr/>
        </p:nvSpPr>
        <p:spPr>
          <a:xfrm>
            <a:off x="7308720" y="4292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4"/>
          <p:cNvSpPr/>
          <p:nvPr/>
        </p:nvSpPr>
        <p:spPr>
          <a:xfrm flipH="1">
            <a:off x="5796000" y="59500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5"/>
          <p:cNvSpPr/>
          <p:nvPr/>
        </p:nvSpPr>
        <p:spPr>
          <a:xfrm flipH="1">
            <a:off x="2843280" y="6021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6"/>
          <p:cNvSpPr/>
          <p:nvPr/>
        </p:nvSpPr>
        <p:spPr>
          <a:xfrm flipV="1">
            <a:off x="1476360" y="4581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7"/>
          <p:cNvSpPr/>
          <p:nvPr/>
        </p:nvSpPr>
        <p:spPr>
          <a:xfrm flipV="1">
            <a:off x="147636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8"/>
          <p:cNvSpPr/>
          <p:nvPr/>
        </p:nvSpPr>
        <p:spPr>
          <a:xfrm>
            <a:off x="3965760" y="208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9"/>
          <p:cNvSpPr/>
          <p:nvPr/>
        </p:nvSpPr>
        <p:spPr>
          <a:xfrm>
            <a:off x="7021800" y="18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0"/>
          <p:cNvSpPr/>
          <p:nvPr/>
        </p:nvSpPr>
        <p:spPr>
          <a:xfrm>
            <a:off x="7350480" y="2414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756612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35780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3"/>
          <p:cNvSpPr/>
          <p:nvPr/>
        </p:nvSpPr>
        <p:spPr>
          <a:xfrm>
            <a:off x="1621080" y="4862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1621080" y="2774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140508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6"/>
          <p:cNvSpPr/>
          <p:nvPr/>
        </p:nvSpPr>
        <p:spPr>
          <a:xfrm>
            <a:off x="4239360" y="62064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9"/>
          <p:cNvSpPr/>
          <p:nvPr/>
        </p:nvSpPr>
        <p:spPr>
          <a:xfrm>
            <a:off x="3059280" y="25131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0"/>
          <p:cNvSpPr/>
          <p:nvPr/>
        </p:nvSpPr>
        <p:spPr>
          <a:xfrm>
            <a:off x="2781720" y="2368440"/>
            <a:ext cx="3209040" cy="1465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6544440" y="54936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4"/>
          <p:cNvSpPr/>
          <p:nvPr/>
        </p:nvSpPr>
        <p:spPr>
          <a:xfrm>
            <a:off x="6760440" y="278136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5"/>
          <p:cNvSpPr/>
          <p:nvPr/>
        </p:nvSpPr>
        <p:spPr>
          <a:xfrm>
            <a:off x="6976080" y="521964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6"/>
          <p:cNvSpPr/>
          <p:nvPr/>
        </p:nvSpPr>
        <p:spPr>
          <a:xfrm>
            <a:off x="4095000" y="522936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7"/>
          <p:cNvSpPr/>
          <p:nvPr/>
        </p:nvSpPr>
        <p:spPr>
          <a:xfrm>
            <a:off x="999360" y="521964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8"/>
          <p:cNvSpPr/>
          <p:nvPr/>
        </p:nvSpPr>
        <p:spPr>
          <a:xfrm>
            <a:off x="999360" y="313056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9"/>
          <p:cNvSpPr/>
          <p:nvPr/>
        </p:nvSpPr>
        <p:spPr>
          <a:xfrm>
            <a:off x="855000" y="112536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203640" y="569880"/>
            <a:ext cx="216036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 flipV="1">
            <a:off x="377820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4989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278880" y="1146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188040" y="569880"/>
            <a:ext cx="216072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121800" y="10018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V="1">
            <a:off x="683568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75247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227640" y="280368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269040" y="316404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rato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7020000" y="28746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7740720" y="2876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6443640" y="522936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585120" y="563868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 flipV="1">
            <a:off x="7236000" y="52779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7956720" y="52801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3564000" y="5229360"/>
            <a:ext cx="216036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435600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507672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568680" y="56610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468360" y="522936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"/>
          <p:cNvSpPr/>
          <p:nvPr/>
        </p:nvSpPr>
        <p:spPr>
          <a:xfrm flipV="1">
            <a:off x="126036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198108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15240" y="565956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468360" y="314172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7"/>
          <p:cNvSpPr/>
          <p:nvPr/>
        </p:nvSpPr>
        <p:spPr>
          <a:xfrm flipV="1">
            <a:off x="1260360" y="3141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>
            <a:off x="1981080" y="31431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543600" y="3581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39640" y="1125360"/>
            <a:ext cx="216072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1"/>
          <p:cNvSpPr/>
          <p:nvPr/>
        </p:nvSpPr>
        <p:spPr>
          <a:xfrm flipV="1">
            <a:off x="1116000" y="119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>
            <a:off x="1979640" y="1197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3"/>
          <p:cNvSpPr/>
          <p:nvPr/>
        </p:nvSpPr>
        <p:spPr>
          <a:xfrm>
            <a:off x="616320" y="170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4"/>
          <p:cNvSpPr/>
          <p:nvPr/>
        </p:nvSpPr>
        <p:spPr>
          <a:xfrm>
            <a:off x="5508720" y="114624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5"/>
          <p:cNvSpPr/>
          <p:nvPr/>
        </p:nvSpPr>
        <p:spPr>
          <a:xfrm>
            <a:off x="7308720" y="2060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6"/>
          <p:cNvSpPr/>
          <p:nvPr/>
        </p:nvSpPr>
        <p:spPr>
          <a:xfrm>
            <a:off x="7308720" y="4292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7"/>
          <p:cNvSpPr/>
          <p:nvPr/>
        </p:nvSpPr>
        <p:spPr>
          <a:xfrm flipH="1">
            <a:off x="5796000" y="59500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8"/>
          <p:cNvSpPr/>
          <p:nvPr/>
        </p:nvSpPr>
        <p:spPr>
          <a:xfrm flipH="1">
            <a:off x="2843280" y="6021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9"/>
          <p:cNvSpPr/>
          <p:nvPr/>
        </p:nvSpPr>
        <p:spPr>
          <a:xfrm flipV="1">
            <a:off x="1476360" y="4581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0"/>
          <p:cNvSpPr/>
          <p:nvPr/>
        </p:nvSpPr>
        <p:spPr>
          <a:xfrm flipV="1">
            <a:off x="147636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1"/>
          <p:cNvSpPr/>
          <p:nvPr/>
        </p:nvSpPr>
        <p:spPr>
          <a:xfrm>
            <a:off x="3965760" y="208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7021800" y="18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3"/>
          <p:cNvSpPr/>
          <p:nvPr/>
        </p:nvSpPr>
        <p:spPr>
          <a:xfrm>
            <a:off x="7350480" y="2414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4"/>
          <p:cNvSpPr/>
          <p:nvPr/>
        </p:nvSpPr>
        <p:spPr>
          <a:xfrm>
            <a:off x="756612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435780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"/>
          <p:cNvSpPr/>
          <p:nvPr/>
        </p:nvSpPr>
        <p:spPr>
          <a:xfrm>
            <a:off x="1621080" y="4862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7"/>
          <p:cNvSpPr/>
          <p:nvPr/>
        </p:nvSpPr>
        <p:spPr>
          <a:xfrm>
            <a:off x="1621080" y="2774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8"/>
          <p:cNvSpPr/>
          <p:nvPr/>
        </p:nvSpPr>
        <p:spPr>
          <a:xfrm>
            <a:off x="140508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3517200" y="62064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3059280" y="25131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1"/>
          <p:cNvSpPr/>
          <p:nvPr/>
        </p:nvSpPr>
        <p:spPr>
          <a:xfrm>
            <a:off x="2781720" y="2368440"/>
            <a:ext cx="3209040" cy="1465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2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5"/>
          <p:cNvSpPr/>
          <p:nvPr/>
        </p:nvSpPr>
        <p:spPr>
          <a:xfrm>
            <a:off x="7261920" y="54936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7477920" y="284328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7"/>
          <p:cNvSpPr/>
          <p:nvPr/>
        </p:nvSpPr>
        <p:spPr>
          <a:xfrm>
            <a:off x="7693920" y="521964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4815720" y="521964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9"/>
          <p:cNvSpPr/>
          <p:nvPr/>
        </p:nvSpPr>
        <p:spPr>
          <a:xfrm>
            <a:off x="1720080" y="522936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0"/>
          <p:cNvSpPr/>
          <p:nvPr/>
        </p:nvSpPr>
        <p:spPr>
          <a:xfrm>
            <a:off x="1720080" y="314172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1"/>
          <p:cNvSpPr/>
          <p:nvPr/>
        </p:nvSpPr>
        <p:spPr>
          <a:xfrm>
            <a:off x="1720080" y="112536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0:23:46Z</dcterms:created>
  <dc:creator>GKT</dc:creator>
  <dc:description/>
  <dc:language>en-US</dc:language>
  <cp:lastModifiedBy>Conchita</cp:lastModifiedBy>
  <dcterms:modified xsi:type="dcterms:W3CDTF">2019-08-09T17:06:55Z</dcterms:modified>
  <cp:revision>62</cp:revision>
  <dc:subject/>
  <dc:title>Diapositiva 1</dc:title>
</cp:coreProperties>
</file>