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10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659-BBF4-4CBC-9D79-064DB88A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5CC-AA31-41DD-A0C2-D4AFB6FA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755-C95D-4ADD-82DB-5DD7ADB0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CFF-EFCE-41D2-8DF4-650D924C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BAFE-D174-497C-8D32-B7B2AA1C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D2F1-0070-4FD5-9E2C-5CBB39D8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E907-19B6-4361-94BC-538A55AF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39DB-4E9C-44E0-89AA-9DB06139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55C1-3659-4B3A-9400-3602F9F3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F76D-BC70-47C8-B24A-3FCCB9E9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81A2-A10F-400F-9CE9-938234E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7CD-9F2D-4C8C-B0D0-237DFF1D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DA46-738B-4B47-BEB1-8A732072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C54C-4BB2-4FC6-A569-4CB93D2C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2080-5299-4A31-8C18-4356C404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B8E9-6C61-4E8D-833F-20EE48E8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77B2-D615-4D00-89F0-9DD90882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58B-5E0B-48CE-BCC0-AAE0B7DF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362-4DA2-4E45-9845-6F39D132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2F7-D65E-49EE-96DA-16DA9AF9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7A8-B8FE-4D7E-8F69-B629C3D3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564-67A9-441B-AA23-B111917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3C4-F8AC-4CD1-89F9-D484571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2C9-310E-4964-80EA-C84C82ED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6F2F-1623-4559-8550-02FE5F996B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C034-AE04-4081-A53F-1C028D399D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Ro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89640" y="142920"/>
            <a:ext cx="300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ienvenido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utoevalu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a Presión Sanguín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nde encontrarás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riedad de ejercicio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capacitarán e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specto de vital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a tu ejercicio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076440" y="142920"/>
            <a:ext cx="289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os mecanism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gulación se ilustra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u aprendizaje y luego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visa el conoc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quir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348000" y="404640"/>
            <a:ext cx="1944720" cy="1346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444120" y="10461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 flipV="1">
            <a:off x="3924360" y="476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4716360" y="54756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659640" y="33336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 flipV="1">
            <a:off x="7236000" y="40464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8028000" y="40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6709680" y="10540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a del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6730920" y="258768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7307280" y="26589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8099280" y="263700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6679080" y="314172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6730920" y="481968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 flipV="1">
            <a:off x="7307280" y="48909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8099280" y="489096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6861960" y="544500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smolar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3780000" y="4869000"/>
            <a:ext cx="194436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 flipV="1">
            <a:off x="4356000" y="4940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5"/>
          <p:cNvSpPr/>
          <p:nvPr/>
        </p:nvSpPr>
        <p:spPr>
          <a:xfrm>
            <a:off x="5148360" y="49402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3926520" y="545148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826920" y="486900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 flipV="1">
            <a:off x="1403280" y="4940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9"/>
          <p:cNvSpPr/>
          <p:nvPr/>
        </p:nvSpPr>
        <p:spPr>
          <a:xfrm>
            <a:off x="2195640" y="49402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831240" y="5321160"/>
            <a:ext cx="194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eabilidad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a por tub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250920" y="2781360"/>
            <a:ext cx="194472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2"/>
          <p:cNvSpPr/>
          <p:nvPr/>
        </p:nvSpPr>
        <p:spPr>
          <a:xfrm flipV="1">
            <a:off x="826920" y="285264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>
            <a:off x="1619280" y="2852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4"/>
          <p:cNvSpPr/>
          <p:nvPr/>
        </p:nvSpPr>
        <p:spPr>
          <a:xfrm>
            <a:off x="255240" y="3233880"/>
            <a:ext cx="197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isión de ori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smolaridad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5"/>
          <p:cNvSpPr/>
          <p:nvPr/>
        </p:nvSpPr>
        <p:spPr>
          <a:xfrm>
            <a:off x="250920" y="836640"/>
            <a:ext cx="2160360" cy="1346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6"/>
          <p:cNvSpPr/>
          <p:nvPr/>
        </p:nvSpPr>
        <p:spPr>
          <a:xfrm flipV="1">
            <a:off x="826920" y="9075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>
            <a:off x="1690560" y="9079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8"/>
          <p:cNvSpPr/>
          <p:nvPr/>
        </p:nvSpPr>
        <p:spPr>
          <a:xfrm>
            <a:off x="327600" y="141300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2900520" y="2368440"/>
            <a:ext cx="320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el recuadro en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flecha que corresp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rectángulo, ten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uenta la condición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0"/>
          <p:cNvSpPr/>
          <p:nvPr/>
        </p:nvSpPr>
        <p:spPr>
          <a:xfrm>
            <a:off x="4093200" y="399420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250920" y="202572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96360" y="23446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843280" y="202572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919240" y="216072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ces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114560" y="1557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3573720" y="1593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250920" y="386064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255240" y="3789360"/>
            <a:ext cx="217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a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042920" y="35002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2843280" y="386064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3059280" y="3905280"/>
            <a:ext cx="167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sto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3587760" y="3463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324000" y="5518080"/>
            <a:ext cx="237636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326160" y="5629320"/>
            <a:ext cx="24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ída súb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la vo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3492360" y="5518080"/>
            <a:ext cx="223200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3492360" y="5603760"/>
            <a:ext cx="21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 pa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6372360" y="5373720"/>
            <a:ext cx="2447640" cy="136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6443640" y="5373720"/>
            <a:ext cx="25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ída súb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la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1116000" y="5157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4367520" y="51577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380360" y="4941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5956200" y="20080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ecuencia Cardia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7"/>
          <p:cNvSpPr/>
          <p:nvPr/>
        </p:nvSpPr>
        <p:spPr>
          <a:xfrm>
            <a:off x="5899320" y="2060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544392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9"/>
          <p:cNvSpPr/>
          <p:nvPr/>
        </p:nvSpPr>
        <p:spPr>
          <a:xfrm>
            <a:off x="5364000" y="36925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0"/>
          <p:cNvSpPr/>
          <p:nvPr/>
        </p:nvSpPr>
        <p:spPr>
          <a:xfrm flipV="1">
            <a:off x="5940360" y="3646080"/>
            <a:ext cx="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1"/>
          <p:cNvSpPr/>
          <p:nvPr/>
        </p:nvSpPr>
        <p:spPr>
          <a:xfrm>
            <a:off x="6016680" y="362124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ecuencia Cardia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2"/>
          <p:cNvSpPr/>
          <p:nvPr/>
        </p:nvSpPr>
        <p:spPr>
          <a:xfrm>
            <a:off x="5292720" y="249228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3"/>
          <p:cNvSpPr/>
          <p:nvPr/>
        </p:nvSpPr>
        <p:spPr>
          <a:xfrm flipV="1">
            <a:off x="5292720" y="1916280"/>
            <a:ext cx="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4"/>
          <p:cNvSpPr/>
          <p:nvPr/>
        </p:nvSpPr>
        <p:spPr>
          <a:xfrm flipV="1">
            <a:off x="8964720" y="1916280"/>
            <a:ext cx="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5"/>
          <p:cNvSpPr/>
          <p:nvPr/>
        </p:nvSpPr>
        <p:spPr>
          <a:xfrm>
            <a:off x="5292720" y="191628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6"/>
          <p:cNvSpPr/>
          <p:nvPr/>
        </p:nvSpPr>
        <p:spPr>
          <a:xfrm>
            <a:off x="5292720" y="414972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 flipV="1">
            <a:off x="5292720" y="3573000"/>
            <a:ext cx="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8"/>
          <p:cNvSpPr/>
          <p:nvPr/>
        </p:nvSpPr>
        <p:spPr>
          <a:xfrm flipV="1">
            <a:off x="8964720" y="3573000"/>
            <a:ext cx="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9"/>
          <p:cNvSpPr/>
          <p:nvPr/>
        </p:nvSpPr>
        <p:spPr>
          <a:xfrm>
            <a:off x="5292720" y="357336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0"/>
          <p:cNvSpPr/>
          <p:nvPr/>
        </p:nvSpPr>
        <p:spPr>
          <a:xfrm>
            <a:off x="47880" y="519120"/>
            <a:ext cx="8991000" cy="825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los factores del rectángulo que modifican la Frecue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a Cardiaca en sentido de aumentarla o disminui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2"/>
          <p:cNvSpPr/>
          <p:nvPr/>
        </p:nvSpPr>
        <p:spPr>
          <a:xfrm>
            <a:off x="6356880" y="2967120"/>
            <a:ext cx="14608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43"/>
          <p:cNvSpPr/>
          <p:nvPr/>
        </p:nvSpPr>
        <p:spPr>
          <a:xfrm>
            <a:off x="7093080" y="2492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4"/>
          <p:cNvSpPr/>
          <p:nvPr/>
        </p:nvSpPr>
        <p:spPr>
          <a:xfrm>
            <a:off x="6469920" y="4538520"/>
            <a:ext cx="14608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5"/>
          <p:cNvSpPr/>
          <p:nvPr/>
        </p:nvSpPr>
        <p:spPr>
          <a:xfrm>
            <a:off x="7164360" y="4149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250920" y="202572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6880" y="231444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2843280" y="202572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169080" y="221148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ces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14560" y="1557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573720" y="1593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250920" y="386064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45760" y="3897360"/>
            <a:ext cx="17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042920" y="35002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3419640" y="386064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30840" y="4005360"/>
            <a:ext cx="12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sto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4164120" y="3463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661080" y="414972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6736680" y="43354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ída súb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vo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250920" y="551808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587520" y="570384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 pa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3419640" y="551808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3496320" y="5554800"/>
            <a:ext cx="19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ída súb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6228000" y="4545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1125720" y="51577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4211640" y="5157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6045120" y="15048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lumen sistó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4"/>
          <p:cNvSpPr/>
          <p:nvPr/>
        </p:nvSpPr>
        <p:spPr>
          <a:xfrm>
            <a:off x="589932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5443920" y="1484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5364000" y="28274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7"/>
          <p:cNvSpPr/>
          <p:nvPr/>
        </p:nvSpPr>
        <p:spPr>
          <a:xfrm flipV="1">
            <a:off x="5940360" y="2781360"/>
            <a:ext cx="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6012000" y="27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9"/>
          <p:cNvSpPr/>
          <p:nvPr/>
        </p:nvSpPr>
        <p:spPr>
          <a:xfrm>
            <a:off x="5292720" y="198900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0"/>
          <p:cNvSpPr/>
          <p:nvPr/>
        </p:nvSpPr>
        <p:spPr>
          <a:xfrm flipV="1">
            <a:off x="5292720" y="1413000"/>
            <a:ext cx="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1"/>
          <p:cNvSpPr/>
          <p:nvPr/>
        </p:nvSpPr>
        <p:spPr>
          <a:xfrm flipV="1">
            <a:off x="8964720" y="1413000"/>
            <a:ext cx="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2"/>
          <p:cNvSpPr/>
          <p:nvPr/>
        </p:nvSpPr>
        <p:spPr>
          <a:xfrm>
            <a:off x="5292720" y="141300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3"/>
          <p:cNvSpPr/>
          <p:nvPr/>
        </p:nvSpPr>
        <p:spPr>
          <a:xfrm>
            <a:off x="5292720" y="328464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4"/>
          <p:cNvSpPr/>
          <p:nvPr/>
        </p:nvSpPr>
        <p:spPr>
          <a:xfrm flipV="1">
            <a:off x="5292720" y="2707920"/>
            <a:ext cx="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5"/>
          <p:cNvSpPr/>
          <p:nvPr/>
        </p:nvSpPr>
        <p:spPr>
          <a:xfrm flipV="1">
            <a:off x="8964720" y="2707920"/>
            <a:ext cx="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6"/>
          <p:cNvSpPr/>
          <p:nvPr/>
        </p:nvSpPr>
        <p:spPr>
          <a:xfrm>
            <a:off x="5292720" y="2708280"/>
            <a:ext cx="3708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47160" y="333360"/>
            <a:ext cx="8957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los factores del rectángulo que modifican el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ólico en sentido de aumentarla o disminui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6084720" y="278136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lumen sistó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6661080" y="5518080"/>
            <a:ext cx="2232000" cy="12240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6228000" y="591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6663240" y="573408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rement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. 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356880" y="2109960"/>
            <a:ext cx="14608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6356880" y="3467160"/>
            <a:ext cx="14608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Ro7"/>
          <p:cNvPicPr/>
          <p:nvPr/>
        </p:nvPicPr>
        <p:blipFill>
          <a:blip r:embed="rId1"/>
          <a:stretch/>
        </p:blipFill>
        <p:spPr>
          <a:xfrm>
            <a:off x="250920" y="1484280"/>
            <a:ext cx="6694560" cy="49388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5"/>
          <p:cNvSpPr/>
          <p:nvPr/>
        </p:nvSpPr>
        <p:spPr>
          <a:xfrm>
            <a:off x="177480" y="279360"/>
            <a:ext cx="8992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dentifique las variables cardiacas y su valor que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Gasto Cardiaco de 5,250 m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5293800" y="4365720"/>
            <a:ext cx="133272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5650560" y="4862520"/>
            <a:ext cx="10126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6876360" y="1936800"/>
            <a:ext cx="17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c. Cardi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6882840" y="2297160"/>
            <a:ext cx="15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. sist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883560" y="2655720"/>
            <a:ext cx="19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orno Ven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6883560" y="301608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.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6901920" y="3357720"/>
            <a:ext cx="93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.P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7460280" y="4240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5 lat/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7531560" y="48434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>
            <a:off x="6877080" y="4508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6804000" y="508464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cc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290160" y="190440"/>
            <a:ext cx="86144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diga el efecto de cada factor sobre la Frec. Cardiaca, Volumen sistó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el Gasto cardiaco, indicando si aumenta (     ), disminuye (      ) o no va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ía (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 flipV="1">
            <a:off x="5435640" y="5472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7308720" y="549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"/>
          <p:cNvSpPr/>
          <p:nvPr/>
        </p:nvSpPr>
        <p:spPr>
          <a:xfrm>
            <a:off x="971640" y="98100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181440" y="212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181440" y="263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181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181440" y="354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181440" y="404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181440" y="447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18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181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8144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37080" y="6302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550440" y="212580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. Simpática increme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543240" y="2622600"/>
            <a:ext cx="38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. Parasimpática increme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541800" y="3062160"/>
            <a:ext cx="23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mento del 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541440" y="3565440"/>
            <a:ext cx="31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ja frecuencia por la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542520" y="40705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ecuencia Cardiaca rá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541800" y="4502160"/>
            <a:ext cx="12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540720" y="4941720"/>
            <a:ext cx="31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ída súbita de 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541080" y="54450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vándose presión s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541080" y="5877000"/>
            <a:ext cx="31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ída súbita de la vol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542160" y="6302520"/>
            <a:ext cx="21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ceso de cal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8"/>
          <p:cNvSpPr/>
          <p:nvPr/>
        </p:nvSpPr>
        <p:spPr>
          <a:xfrm>
            <a:off x="3854520" y="140652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ec.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9"/>
          <p:cNvSpPr/>
          <p:nvPr/>
        </p:nvSpPr>
        <p:spPr>
          <a:xfrm>
            <a:off x="5506920" y="14065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. Sist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7237800" y="14065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Cardi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5221440" y="140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2"/>
          <p:cNvSpPr/>
          <p:nvPr/>
        </p:nvSpPr>
        <p:spPr>
          <a:xfrm>
            <a:off x="7021080" y="1406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cc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Ro1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3"/>
          <p:cNvSpPr/>
          <p:nvPr/>
        </p:nvSpPr>
        <p:spPr>
          <a:xfrm>
            <a:off x="4206960" y="981000"/>
            <a:ext cx="459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0rdene de manera secuencial y 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fectos que aparecen cuan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 la actividad simpática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arterias y su repercusión sob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4137840" y="2787480"/>
            <a:ext cx="33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a la pres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4134240" y="3219480"/>
            <a:ext cx="471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 actividad de fibras mot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Fibras nerviosas simpát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4115160" y="3944880"/>
            <a:ext cx="422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crementa el diámetro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4136040" y="4351320"/>
            <a:ext cx="45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jación del músculo liso va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7504200" y="2781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7823520" y="35020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8326440" y="3933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8542440" y="4365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4146480" y="5116680"/>
            <a:ext cx="47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rdenación numérica: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Ro11"/>
          <p:cNvPicPr/>
          <p:nvPr/>
        </p:nvPicPr>
        <p:blipFill>
          <a:blip r:embed="rId1"/>
          <a:stretch/>
        </p:blipFill>
        <p:spPr>
          <a:xfrm>
            <a:off x="0" y="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4836240" y="4428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icie la cadena de aconte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Regulación de la Pre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erial, cuando ésta comienz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v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681200" y="2154240"/>
            <a:ext cx="165744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ibras de nerv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fer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1834920" y="2847960"/>
            <a:ext cx="12294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ot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64360" y="3908520"/>
            <a:ext cx="10432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ort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3204360" y="4340160"/>
            <a:ext cx="14396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850640" y="1452600"/>
            <a:ext cx="42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vación de la pres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7440" y="44280"/>
            <a:ext cx="941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4793400" y="494172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Dónde se encuentra ubicado el CV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4845600" y="5608800"/>
            <a:ext cx="41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De qué otras regiones del SNC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luencias, que modulan su activi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4937400" y="228600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937400" y="320184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4866120" y="434484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4937400" y="528624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4937400" y="634536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Ro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4572000" y="156384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os de impulsos al CVM des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arorrecep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81800" y="13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t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48320" y="263052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3060000" y="4292640"/>
            <a:ext cx="14014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nguín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4643280" y="92160"/>
            <a:ext cx="4500720" cy="1465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pel del CVM, sobre 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so Autónomo y su reperc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 el Corazón y los Vasos Sanguí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os en el control de la presión sangu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3"/>
          <p:cNvSpPr/>
          <p:nvPr/>
        </p:nvSpPr>
        <p:spPr>
          <a:xfrm>
            <a:off x="4506480" y="4941720"/>
            <a:ext cx="461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división del SNA afecta a las vari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les frecuencia cardiaca y volumen sist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manera más significati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4557240" y="5805360"/>
            <a:ext cx="44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división del SNA no tiene repres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ción inervativa sobre los vasos sanguí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48320" y="363060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4648320" y="457200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7724880" y="5500800"/>
            <a:ext cx="1204920" cy="119124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5867280" y="6429240"/>
            <a:ext cx="1562400" cy="91692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R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1909800" y="2276640"/>
            <a:ext cx="1247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r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di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m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1910160" y="3716280"/>
            <a:ext cx="891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r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3060360" y="4221000"/>
            <a:ext cx="1337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4401720" y="19080"/>
            <a:ext cx="4527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incremento de la a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simpática y la disminu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 Simpática sobre el corazó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esión sanguí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5318280" y="1249200"/>
            <a:ext cx="357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crementa actividad va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nervio parasimpát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5414040" y="1825560"/>
            <a:ext cx="33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 activad simp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nervios cardia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4700880" y="4816440"/>
            <a:ext cx="41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A qué valor de presión sistólica de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ender la columna de mercu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4701240" y="5753160"/>
            <a:ext cx="42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nta realizar este ejercicio cuándo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Sanguínea desci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6009840" y="5465880"/>
            <a:ext cx="126900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5029200" y="6381720"/>
            <a:ext cx="32529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4937400" y="284472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937400" y="355932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4937400" y="427356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R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4556880" y="136440"/>
            <a:ext cx="45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ción de los mecanismo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ápido de la PAM, cuando se pierde s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e del torrente circula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4504680" y="1073160"/>
            <a:ext cx="35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ída de la Presión 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4506840" y="179244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orreceptores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____ impulsos al C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4506480" y="2873520"/>
            <a:ext cx="42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 actividad Parasimp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____________ actividad Simp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4508640" y="3795840"/>
            <a:ext cx="44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__________ frecuencia Cardiac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___; se ___________la vas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icción y se ____________catecol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nas por médula suprar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4506120" y="5392800"/>
            <a:ext cx="42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__________ la Presión 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4556160" y="61722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hibidos, incrementa, disminuye, contrac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lidad, lib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4554720" y="580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abras a comple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060360" y="4221000"/>
            <a:ext cx="1337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Ro31"/>
          <p:cNvPicPr/>
          <p:nvPr/>
        </p:nvPicPr>
        <p:blipFill>
          <a:blip r:embed="rId1"/>
          <a:stretch/>
        </p:blipFill>
        <p:spPr>
          <a:xfrm>
            <a:off x="468360" y="0"/>
            <a:ext cx="7991280" cy="4653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84360" y="189000"/>
            <a:ext cx="216036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33"/>
                </a:solidFill>
                <a:latin typeface="Arial"/>
              </a:rPr>
              <a:t>Extremo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199920" y="189000"/>
            <a:ext cx="21877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33"/>
                </a:solidFill>
                <a:latin typeface="Arial"/>
              </a:rPr>
              <a:t>Extremo Ven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6360" y="5367240"/>
            <a:ext cx="37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fínteres precapilares ab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59720" y="4745160"/>
            <a:ext cx="80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prete cómo se modifica el flujo de sangre al tejido en las sigu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tua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30120" y="5726160"/>
            <a:ext cx="8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0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V="1">
            <a:off x="631800" y="5780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24000" y="6157800"/>
            <a:ext cx="107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C0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V="1">
            <a:off x="684360" y="6157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326160" y="644688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utrientes adecu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4426920" y="5367240"/>
            <a:ext cx="21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mperatur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4404600" y="5870520"/>
            <a:ext cx="28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ión sanguíne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R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5"/>
          <p:cNvSpPr/>
          <p:nvPr/>
        </p:nvSpPr>
        <p:spPr>
          <a:xfrm>
            <a:off x="1766520" y="1916280"/>
            <a:ext cx="1181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erv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rdia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m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1838520" y="2787480"/>
            <a:ext cx="1168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rot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1837800" y="3435480"/>
            <a:ext cx="8391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er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8"/>
          <p:cNvSpPr/>
          <p:nvPr/>
        </p:nvSpPr>
        <p:spPr>
          <a:xfrm>
            <a:off x="1981800" y="4221000"/>
            <a:ext cx="865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ó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"/>
          <p:cNvSpPr/>
          <p:nvPr/>
        </p:nvSpPr>
        <p:spPr>
          <a:xfrm>
            <a:off x="3062160" y="4384800"/>
            <a:ext cx="12826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4782960" y="189000"/>
            <a:ext cx="3952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ecto de incrementar la activ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mpática sobre el corazón  y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ión sangu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4542480" y="1335240"/>
            <a:ext cx="43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remento de la actividad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rvios cardiacos sim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______________actividad va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2"/>
          <p:cNvSpPr/>
          <p:nvPr/>
        </p:nvSpPr>
        <p:spPr>
          <a:xfrm>
            <a:off x="6516720" y="2349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4489560" y="2558880"/>
            <a:ext cx="465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____________frecuencia cardia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contract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6516720" y="3068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4614840" y="3548160"/>
            <a:ext cx="36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_________Gasto cardia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7"/>
          <p:cNvSpPr/>
          <p:nvPr/>
        </p:nvSpPr>
        <p:spPr>
          <a:xfrm>
            <a:off x="6516720" y="393372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4615200" y="4260960"/>
            <a:ext cx="42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__________Pres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4975920" y="4724280"/>
            <a:ext cx="363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labras a utilizar: Aument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4619160" y="5445000"/>
            <a:ext cx="44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diga las respuestas que esp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ontrar ante este incremento de la 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4349880" y="6159600"/>
            <a:ext cx="46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hibición simpática y excitación va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Ro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5"/>
          <p:cNvSpPr/>
          <p:nvPr/>
        </p:nvSpPr>
        <p:spPr>
          <a:xfrm>
            <a:off x="4556160" y="208080"/>
            <a:ext cx="44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ecto de incrementar la actividad simpát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 sobre glándulas adrenales y 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4555440" y="1125360"/>
            <a:ext cx="41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o de impulsos  simpático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ándulas adr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7"/>
          <p:cNvSpPr/>
          <p:nvPr/>
        </p:nvSpPr>
        <p:spPr>
          <a:xfrm>
            <a:off x="6516720" y="1700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4559760" y="2276640"/>
            <a:ext cx="44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liberan______________ y 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 al torrente circul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6516720" y="2997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4557960" y="3357720"/>
            <a:ext cx="44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hormonas______________frecu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a cardiaca,______________     y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1"/>
          <p:cNvSpPr/>
          <p:nvPr/>
        </p:nvSpPr>
        <p:spPr>
          <a:xfrm>
            <a:off x="6516720" y="4365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455148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4615200" y="5608800"/>
            <a:ext cx="419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abras a utilizar: Contractilidad, vas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icción, incrementan, epinefrin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epinef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2775600" y="4149720"/>
            <a:ext cx="16527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ngu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4631400" y="488952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__________Presión 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Ro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4505760" y="352440"/>
            <a:ext cx="461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xtracción súbita de sangre deter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caída de la Presión Sanguíne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romete al flujo sanguíneo renal y d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 la liberación de una impor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 por el riñón que a su vez promu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 la formación de otras que ti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ectos rápidos y a largo plazo sob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Sangu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555080" y="2800440"/>
            <a:ext cx="41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los tipos de sustancias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van formando, así como el  lug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y sus efectos tendente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ar la Presión Sangu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Ro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5342040" y="3867120"/>
            <a:ext cx="38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ntifique la naturaleza y sust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a que libera el riñón y en que l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r lleva a efectos su 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5008680" y="5273640"/>
            <a:ext cx="37011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Ro20"/>
          <p:cNvPicPr/>
          <p:nvPr/>
        </p:nvPicPr>
        <p:blipFill>
          <a:blip r:embed="rId1"/>
          <a:stretch/>
        </p:blipFill>
        <p:spPr>
          <a:xfrm>
            <a:off x="-36360" y="-27000"/>
            <a:ext cx="5838840" cy="3819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Ro21"/>
          <p:cNvPicPr/>
          <p:nvPr/>
        </p:nvPicPr>
        <p:blipFill>
          <a:blip r:embed="rId2"/>
          <a:stretch/>
        </p:blipFill>
        <p:spPr>
          <a:xfrm>
            <a:off x="2771640" y="2924280"/>
            <a:ext cx="5810400" cy="38098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6"/>
          <p:cNvSpPr/>
          <p:nvPr/>
        </p:nvSpPr>
        <p:spPr>
          <a:xfrm>
            <a:off x="2756160" y="281160"/>
            <a:ext cx="296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el nombre del su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to sobre el cual actú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écula representad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2893320" y="1647720"/>
            <a:ext cx="2421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5780160" y="2900520"/>
            <a:ext cx="323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nombre al nuevo 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do, cuando la molé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verde se acopla 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 representada por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y se div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5853240" y="5157720"/>
            <a:ext cx="29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enta algún grad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 la nueva molé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5924160" y="28116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es la naturaleza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, que 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cribió en el rectángul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6075360" y="1643040"/>
            <a:ext cx="2854440" cy="64260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6000840" y="4416480"/>
            <a:ext cx="2854080" cy="64260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6072120" y="6202440"/>
            <a:ext cx="2854440" cy="64260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R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4557240" y="208080"/>
            <a:ext cx="461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uncie la naturaleza y nombr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 que libera el Pulmón y señalíc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esqu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57600" y="1347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a la sustancia sobre la c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úa el elemento liberado por el pulm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4622400" y="2766960"/>
            <a:ext cx="23569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7147080" y="2773440"/>
            <a:ext cx="1854000" cy="91692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Ro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5"/>
          <p:cNvSpPr/>
          <p:nvPr/>
        </p:nvSpPr>
        <p:spPr>
          <a:xfrm>
            <a:off x="4506480" y="208080"/>
            <a:ext cx="452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a la sustancia que se acopl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ared de los capilares pulmonares 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tipo de elemento se 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4506480" y="1289160"/>
            <a:ext cx="46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a la sustancia que resulta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isión del elemento acoplado al endot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4433040" y="2297160"/>
            <a:ext cx="47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es son los efectos que se espera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última sustancia formada en el contro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esión Sanguín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Ro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0" name="Text Box 5"/>
          <p:cNvSpPr/>
          <p:nvPr/>
        </p:nvSpPr>
        <p:spPr>
          <a:xfrm>
            <a:off x="4505760" y="423720"/>
            <a:ext cx="453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última sustancia formada en el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quema promueve a su vez la lib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una hormona a nivel de la Co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rarre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a la sustancia en el rectáng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 que órgano actúa y que ef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4647600" y="4384800"/>
            <a:ext cx="29329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6000840" y="478008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4647600" y="5559480"/>
            <a:ext cx="29329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4647600" y="3071880"/>
            <a:ext cx="29329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0"/>
          <p:cNvSpPr/>
          <p:nvPr/>
        </p:nvSpPr>
        <p:spPr>
          <a:xfrm>
            <a:off x="6000840" y="357192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Ro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5"/>
          <p:cNvSpPr/>
          <p:nvPr/>
        </p:nvSpPr>
        <p:spPr>
          <a:xfrm>
            <a:off x="300600" y="333360"/>
            <a:ext cx="871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plique ¿Cómo se modificará el calibre del vaso sanguíneo cuando se 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iciona Angiotensin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5721120" y="1119240"/>
            <a:ext cx="336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A qué límite espera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cienda la Presión Sistó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a que aparece ind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manómetro de mmh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5145480" y="3502080"/>
            <a:ext cx="38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tipo de efecto de la Angi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nsina, lo consideras de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ápida o lenta. Justif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5243400" y="5214960"/>
            <a:ext cx="3252960" cy="368280"/>
          </a:xfrm>
          <a:prstGeom prst="rect">
            <a:avLst/>
          </a:pr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Ro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5"/>
          <p:cNvSpPr/>
          <p:nvPr/>
        </p:nvSpPr>
        <p:spPr>
          <a:xfrm>
            <a:off x="238680" y="398520"/>
            <a:ext cx="843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rueba tus resultados: observa la modificación en el calibre del v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nguí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4352400" y="421488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0bserva el ascenso en la column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urio. Identifique a este tip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ión Sanguínea, e intenta expl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azón de su ascen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85040" y="333360"/>
            <a:ext cx="88005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blezca las diferencias entre la Autor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cal  Aguda y C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700280"/>
          <a:ext cx="7704000" cy="3317760"/>
        </p:xfrm>
        <a:graphic>
          <a:graphicData uri="http://schemas.openxmlformats.org/drawingml/2006/table">
            <a:tbl>
              <a:tblPr/>
              <a:tblGrid>
                <a:gridCol w="2951280"/>
                <a:gridCol w="1512720"/>
                <a:gridCol w="1584360"/>
                <a:gridCol w="165564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regul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ón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99" name="Text Box 51"/>
          <p:cNvSpPr/>
          <p:nvPr/>
        </p:nvSpPr>
        <p:spPr>
          <a:xfrm>
            <a:off x="169560" y="5823000"/>
            <a:ext cx="88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abras a utilizar: Permanente, funcional, morfológico, transitorio, 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ficaz, menos efic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79280" y="765000"/>
          <a:ext cx="8785440" cy="5045400"/>
        </p:xfrm>
        <a:graphic>
          <a:graphicData uri="http://schemas.openxmlformats.org/drawingml/2006/table">
            <a:tbl>
              <a:tblPr/>
              <a:tblGrid>
                <a:gridCol w="1656000"/>
                <a:gridCol w="649080"/>
                <a:gridCol w="647640"/>
                <a:gridCol w="935280"/>
                <a:gridCol w="865080"/>
                <a:gridCol w="719280"/>
                <a:gridCol w="649080"/>
                <a:gridCol w="647640"/>
                <a:gridCol w="719280"/>
                <a:gridCol w="649440"/>
                <a:gridCol w="64764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rci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i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á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á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vol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rr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5" name="Text Box 88"/>
          <p:cNvSpPr/>
          <p:nvPr/>
        </p:nvSpPr>
        <p:spPr>
          <a:xfrm>
            <a:off x="66240" y="111240"/>
            <a:ext cx="8907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ñalice cada situación si la variable aumenta  ,disminuye  ,no varia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89"/>
          <p:cNvSpPr/>
          <p:nvPr/>
        </p:nvSpPr>
        <p:spPr>
          <a:xfrm flipV="1">
            <a:off x="5835600" y="1155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90"/>
          <p:cNvSpPr/>
          <p:nvPr/>
        </p:nvSpPr>
        <p:spPr>
          <a:xfrm>
            <a:off x="7275600" y="115920"/>
            <a:ext cx="0" cy="40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91"/>
          <p:cNvSpPr/>
          <p:nvPr/>
        </p:nvSpPr>
        <p:spPr>
          <a:xfrm>
            <a:off x="8499600" y="333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2"/>
          <p:cNvSpPr/>
          <p:nvPr/>
        </p:nvSpPr>
        <p:spPr>
          <a:xfrm>
            <a:off x="36360" y="5897520"/>
            <a:ext cx="314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V: Adaptabilidad 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l: Presión de ll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PT: Resist. Perif.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3"/>
          <p:cNvSpPr/>
          <p:nvPr/>
        </p:nvSpPr>
        <p:spPr>
          <a:xfrm>
            <a:off x="3134880" y="5897520"/>
            <a:ext cx="28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V: Resistencia al 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V: Retorno ven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C: Frecuencia cardi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4"/>
          <p:cNvSpPr/>
          <p:nvPr/>
        </p:nvSpPr>
        <p:spPr>
          <a:xfrm>
            <a:off x="5869080" y="589752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S: Vol. Sist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C: Gasto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D: Presión Di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5"/>
          <p:cNvSpPr/>
          <p:nvPr/>
        </p:nvSpPr>
        <p:spPr>
          <a:xfrm>
            <a:off x="7886160" y="589752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S: Pr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27"/>
          <p:cNvSpPr/>
          <p:nvPr/>
        </p:nvSpPr>
        <p:spPr>
          <a:xfrm>
            <a:off x="1835280" y="4437000"/>
            <a:ext cx="70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30"/>
          <p:cNvSpPr/>
          <p:nvPr/>
        </p:nvSpPr>
        <p:spPr>
          <a:xfrm>
            <a:off x="1835280" y="5300640"/>
            <a:ext cx="70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Rulan45"/>
          <p:cNvPicPr/>
          <p:nvPr/>
        </p:nvPicPr>
        <p:blipFill>
          <a:blip r:embed="rId1"/>
          <a:stretch/>
        </p:blipFill>
        <p:spPr>
          <a:xfrm>
            <a:off x="-828720" y="-747720"/>
            <a:ext cx="10872720" cy="8280360"/>
          </a:xfrm>
          <a:prstGeom prst="rect">
            <a:avLst/>
          </a:prstGeom>
          <a:ln w="0">
            <a:noFill/>
          </a:ln>
        </p:spPr>
      </p:pic>
      <p:sp>
        <p:nvSpPr>
          <p:cNvPr id="556" name="WordArt 5"/>
          <p:cNvSpPr txBox="1"/>
          <p:nvPr/>
        </p:nvSpPr>
        <p:spPr>
          <a:xfrm>
            <a:off x="5076720" y="3933720"/>
            <a:ext cx="3314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CHAS GRACIA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Ro1"/>
          <p:cNvPicPr/>
          <p:nvPr/>
        </p:nvPicPr>
        <p:blipFill>
          <a:blip r:embed="rId1"/>
          <a:stretch/>
        </p:blipFill>
        <p:spPr>
          <a:xfrm>
            <a:off x="324000" y="1123920"/>
            <a:ext cx="4895640" cy="554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Ro2"/>
          <p:cNvPicPr/>
          <p:nvPr/>
        </p:nvPicPr>
        <p:blipFill>
          <a:blip r:embed="rId2"/>
          <a:stretch/>
        </p:blipFill>
        <p:spPr>
          <a:xfrm>
            <a:off x="2666880" y="35956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02" name="Line 12"/>
          <p:cNvSpPr/>
          <p:nvPr/>
        </p:nvSpPr>
        <p:spPr>
          <a:xfrm flipV="1">
            <a:off x="5364000" y="3644640"/>
            <a:ext cx="136872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H="1">
            <a:off x="1618920" y="4221000"/>
            <a:ext cx="1584360" cy="432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1834920" y="3571920"/>
            <a:ext cx="158436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1618920" y="3068640"/>
            <a:ext cx="158436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826560" y="2779560"/>
            <a:ext cx="2305080" cy="64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 flipH="1">
            <a:off x="899640" y="3284640"/>
            <a:ext cx="2305080" cy="64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654880" y="126828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Barorreceptores Carotí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5654880" y="162864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Barorreceptores Aó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5653800" y="19890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Nervio Vago (afer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5653080" y="313380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 Nervio Sim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5076720" y="3213000"/>
            <a:ext cx="790560" cy="720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5653800" y="277344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Nervio Vago (efer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5652360" y="241452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Nervio Glosofarín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1547280" y="2563920"/>
            <a:ext cx="158436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915480" y="44280"/>
            <a:ext cx="7942320" cy="825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Identifique la estructura en el dibujo con los no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que aparecen a la der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>
            <a:off x="395280" y="1989000"/>
            <a:ext cx="14436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 flipV="1">
            <a:off x="539640" y="1630080"/>
            <a:ext cx="50328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6720" y="44280"/>
            <a:ext cx="795924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ija los factores que disminuyen la PAM a 120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Ro6"/>
          <p:cNvPicPr/>
          <p:nvPr/>
        </p:nvPicPr>
        <p:blipFill>
          <a:blip r:embed="rId1"/>
          <a:stretch/>
        </p:blipFill>
        <p:spPr>
          <a:xfrm>
            <a:off x="0" y="703440"/>
            <a:ext cx="9144000" cy="6154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4771800" y="135900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ámetro Arterial increm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849560" y="193500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ensibilidad dismin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916880" y="25113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olemia increme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4919400" y="308772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olumen sistólico dismin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917960" y="366408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scosidad sanguínea dis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844880" y="42400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ng. del vaso increme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4916520" y="481644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m. Epinefrina en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42720" y="55357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remento de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42720" y="61117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im. Parasimp. increme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4048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Ro3"/>
          <p:cNvPicPr/>
          <p:nvPr/>
        </p:nvPicPr>
        <p:blipFill>
          <a:blip r:embed="rId1"/>
          <a:stretch/>
        </p:blipFill>
        <p:spPr>
          <a:xfrm>
            <a:off x="324000" y="162000"/>
            <a:ext cx="8604000" cy="6624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473640" y="47242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843160" y="635796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pinef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7499160" y="63295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30880" y="136440"/>
            <a:ext cx="384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de los dos neurotransmi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Sistema Nervioso Autón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 aplicarse al coraz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evar la presión sistó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605200" y="143208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debe ser el rango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 sanguínea nor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19640" y="4659480"/>
            <a:ext cx="158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ó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551640" y="2198520"/>
            <a:ext cx="158904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Ro4"/>
          <p:cNvPicPr/>
          <p:nvPr/>
        </p:nvPicPr>
        <p:blipFill>
          <a:blip r:embed="rId1"/>
          <a:stretch/>
        </p:blipFill>
        <p:spPr>
          <a:xfrm>
            <a:off x="108000" y="44280"/>
            <a:ext cx="6192720" cy="6131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5945040" y="163440"/>
            <a:ext cx="3184560" cy="146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que el nervio e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debe activars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era que 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ólica descienda a su li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, e indique ese li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023880" y="3429000"/>
            <a:ext cx="3007800" cy="17398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que cuál es el medi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ímico de ese nerv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 cuál de las variab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diacas que determi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Gasto Cardiaco infl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27800" y="18446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 Sim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427800" y="21844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 V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428160" y="24922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 Glosofarín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428880" y="28321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rvio hipog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427800" y="515772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sopre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428520" y="5438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epinef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428160" y="572616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426720" y="60404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109800" y="6427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765800" y="6427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P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52760" y="64278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Vol. sistól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4645800" y="642780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rec. Cardía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7094160" y="64278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t. Ven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203640" y="569880"/>
            <a:ext cx="2160360" cy="134640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V="1">
            <a:off x="3778200" y="6411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4498920" y="6429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278880" y="1146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6156360" y="54936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422400" y="100188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 flipV="1">
            <a:off x="6835680" y="6411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7524720" y="6429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6227640" y="280368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6269040" y="3164040"/>
            <a:ext cx="20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rato de r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formado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V="1">
            <a:off x="7020000" y="28746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7740720" y="2876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6443640" y="522936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6585120" y="563868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s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 flipV="1">
            <a:off x="7236000" y="52779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7956720" y="52801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3564000" y="5229360"/>
            <a:ext cx="216036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 flipV="1">
            <a:off x="4356000" y="5229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5076720" y="52308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3568680" y="566100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Ad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468360" y="522936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 flipV="1">
            <a:off x="1260360" y="5229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1981080" y="52308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615240" y="565956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bsor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468360" y="3141720"/>
            <a:ext cx="2160720" cy="13460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1"/>
          <p:cNvSpPr/>
          <p:nvPr/>
        </p:nvSpPr>
        <p:spPr>
          <a:xfrm flipV="1">
            <a:off x="1260360" y="3141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1981080" y="31431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543600" y="358128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bsor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539640" y="1125360"/>
            <a:ext cx="2160720" cy="1346400"/>
          </a:xfrm>
          <a:prstGeom prst="rect">
            <a:avLst/>
          </a:prstGeom>
          <a:solidFill>
            <a:srgbClr val="cc99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8"/>
          <p:cNvSpPr/>
          <p:nvPr/>
        </p:nvSpPr>
        <p:spPr>
          <a:xfrm flipV="1">
            <a:off x="1116000" y="1196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9"/>
          <p:cNvSpPr/>
          <p:nvPr/>
        </p:nvSpPr>
        <p:spPr>
          <a:xfrm>
            <a:off x="2268360" y="12924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616320" y="170172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5508720" y="114624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2"/>
          <p:cNvSpPr/>
          <p:nvPr/>
        </p:nvSpPr>
        <p:spPr>
          <a:xfrm>
            <a:off x="7308720" y="206064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7308720" y="429264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4"/>
          <p:cNvSpPr/>
          <p:nvPr/>
        </p:nvSpPr>
        <p:spPr>
          <a:xfrm flipH="1">
            <a:off x="5796000" y="59500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5"/>
          <p:cNvSpPr/>
          <p:nvPr/>
        </p:nvSpPr>
        <p:spPr>
          <a:xfrm flipH="1">
            <a:off x="2843280" y="602136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6"/>
          <p:cNvSpPr/>
          <p:nvPr/>
        </p:nvSpPr>
        <p:spPr>
          <a:xfrm flipV="1">
            <a:off x="1476360" y="45813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7"/>
          <p:cNvSpPr/>
          <p:nvPr/>
        </p:nvSpPr>
        <p:spPr>
          <a:xfrm flipV="1">
            <a:off x="147636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8"/>
          <p:cNvSpPr/>
          <p:nvPr/>
        </p:nvSpPr>
        <p:spPr>
          <a:xfrm>
            <a:off x="3965760" y="208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9"/>
          <p:cNvSpPr/>
          <p:nvPr/>
        </p:nvSpPr>
        <p:spPr>
          <a:xfrm>
            <a:off x="7021800" y="18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7350480" y="2414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7566120" y="486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357800" y="486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1621080" y="4862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4"/>
          <p:cNvSpPr/>
          <p:nvPr/>
        </p:nvSpPr>
        <p:spPr>
          <a:xfrm>
            <a:off x="1621080" y="2774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5"/>
          <p:cNvSpPr/>
          <p:nvPr/>
        </p:nvSpPr>
        <p:spPr>
          <a:xfrm>
            <a:off x="140508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3059280" y="251316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2781720" y="2368440"/>
            <a:ext cx="3209040" cy="1465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el recuadro en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flecha que corresp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rectángulo, ten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uenta la condición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2"/>
          <p:cNvSpPr/>
          <p:nvPr/>
        </p:nvSpPr>
        <p:spPr>
          <a:xfrm>
            <a:off x="4093200" y="3994200"/>
            <a:ext cx="522000" cy="459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203640" y="569880"/>
            <a:ext cx="2160360" cy="13464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 flipV="1">
            <a:off x="3778200" y="6411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4498920" y="6429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78880" y="1146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188040" y="569880"/>
            <a:ext cx="2384640" cy="13464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121800" y="10018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de R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 flipV="1">
            <a:off x="6835680" y="6411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7524720" y="6429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6227640" y="2803680"/>
            <a:ext cx="216072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269040" y="3164040"/>
            <a:ext cx="20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rato de r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formado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V="1">
            <a:off x="7020000" y="28746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7740720" y="2876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443640" y="5229360"/>
            <a:ext cx="216072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585120" y="563868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s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 flipV="1">
            <a:off x="7236000" y="52779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7956720" y="52801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3564000" y="5229360"/>
            <a:ext cx="216036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 flipV="1">
            <a:off x="4356000" y="5229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5076720" y="52308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568680" y="566100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ción Ad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68360" y="5229360"/>
            <a:ext cx="216072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1260360" y="5229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1981080" y="52308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5"/>
          <p:cNvSpPr/>
          <p:nvPr/>
        </p:nvSpPr>
        <p:spPr>
          <a:xfrm>
            <a:off x="615240" y="565956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bsor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468360" y="3141720"/>
            <a:ext cx="2160720" cy="13460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 flipV="1">
            <a:off x="1260360" y="3141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8"/>
          <p:cNvSpPr/>
          <p:nvPr/>
        </p:nvSpPr>
        <p:spPr>
          <a:xfrm>
            <a:off x="1981080" y="31431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543600" y="358128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bsor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0"/>
          <p:cNvSpPr/>
          <p:nvPr/>
        </p:nvSpPr>
        <p:spPr>
          <a:xfrm>
            <a:off x="539640" y="1125360"/>
            <a:ext cx="2160720" cy="134640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1"/>
          <p:cNvSpPr/>
          <p:nvPr/>
        </p:nvSpPr>
        <p:spPr>
          <a:xfrm flipV="1">
            <a:off x="1116000" y="1196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2"/>
          <p:cNvSpPr/>
          <p:nvPr/>
        </p:nvSpPr>
        <p:spPr>
          <a:xfrm>
            <a:off x="1979640" y="1197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616320" y="170172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emia y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4"/>
          <p:cNvSpPr/>
          <p:nvPr/>
        </p:nvSpPr>
        <p:spPr>
          <a:xfrm>
            <a:off x="5508720" y="114624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5"/>
          <p:cNvSpPr/>
          <p:nvPr/>
        </p:nvSpPr>
        <p:spPr>
          <a:xfrm>
            <a:off x="7308720" y="206064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>
            <a:off x="7308720" y="429264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7"/>
          <p:cNvSpPr/>
          <p:nvPr/>
        </p:nvSpPr>
        <p:spPr>
          <a:xfrm flipH="1">
            <a:off x="5796000" y="59500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8"/>
          <p:cNvSpPr/>
          <p:nvPr/>
        </p:nvSpPr>
        <p:spPr>
          <a:xfrm flipH="1">
            <a:off x="2843280" y="602136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9"/>
          <p:cNvSpPr/>
          <p:nvPr/>
        </p:nvSpPr>
        <p:spPr>
          <a:xfrm flipV="1">
            <a:off x="1476360" y="45813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0"/>
          <p:cNvSpPr/>
          <p:nvPr/>
        </p:nvSpPr>
        <p:spPr>
          <a:xfrm flipV="1">
            <a:off x="147636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1"/>
          <p:cNvSpPr/>
          <p:nvPr/>
        </p:nvSpPr>
        <p:spPr>
          <a:xfrm>
            <a:off x="3965760" y="208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2"/>
          <p:cNvSpPr/>
          <p:nvPr/>
        </p:nvSpPr>
        <p:spPr>
          <a:xfrm>
            <a:off x="7021800" y="18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3"/>
          <p:cNvSpPr/>
          <p:nvPr/>
        </p:nvSpPr>
        <p:spPr>
          <a:xfrm>
            <a:off x="7350480" y="2414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7566120" y="486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5"/>
          <p:cNvSpPr/>
          <p:nvPr/>
        </p:nvSpPr>
        <p:spPr>
          <a:xfrm>
            <a:off x="4357800" y="4869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1621080" y="4862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1621080" y="2774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8"/>
          <p:cNvSpPr/>
          <p:nvPr/>
        </p:nvSpPr>
        <p:spPr>
          <a:xfrm>
            <a:off x="1405080" y="76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0"/>
          <p:cNvSpPr/>
          <p:nvPr/>
        </p:nvSpPr>
        <p:spPr>
          <a:xfrm>
            <a:off x="3059280" y="251316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1"/>
          <p:cNvSpPr/>
          <p:nvPr/>
        </p:nvSpPr>
        <p:spPr>
          <a:xfrm>
            <a:off x="2781720" y="2368440"/>
            <a:ext cx="3209040" cy="1465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el recuadro en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flecha que corresp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rectángulo, ten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uenta la condición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2"/>
          <p:cNvSpPr/>
          <p:nvPr/>
        </p:nvSpPr>
        <p:spPr>
          <a:xfrm>
            <a:off x="4093200" y="3994200"/>
            <a:ext cx="52200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20:23:46Z</dcterms:created>
  <dc:creator>GKT</dc:creator>
  <dc:description/>
  <dc:language>en-US</dc:language>
  <cp:lastModifiedBy>Conchita</cp:lastModifiedBy>
  <dcterms:modified xsi:type="dcterms:W3CDTF">2019-08-09T16:56:23Z</dcterms:modified>
  <cp:revision>98</cp:revision>
  <dc:subject/>
  <dc:title>Diapositiva 1</dc:title>
</cp:coreProperties>
</file>